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Q- </a:t>
            </a:r>
            <a:fld id="{88C4FE96-FD68-4378-AB7C-67B2F798E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EMISlandscapecover2" descr=""/>
          <p:cNvPicPr/>
          <p:nvPr/>
        </p:nvPicPr>
        <p:blipFill>
          <a:blip r:embed="rId1"/>
          <a:stretch/>
        </p:blipFill>
        <p:spPr>
          <a:xfrm>
            <a:off x="0" y="6480"/>
            <a:ext cx="10058400" cy="776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8585280" cy="7772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M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E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TORY OF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NTS AND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ROSCALE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TERACTIONS DURING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BST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ESOLVING THE MYSTERY OF WHERE, WHEN AND HOW AURORAL ERUPTIONS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THEMIS Site Vis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January 28, 200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University of California, Berke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2952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answers appear in the appendix, short answers appear at the following loca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26880"/>
            <a:ext cx="352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1535040"/>
                <a:tab algn="ctr" pos="4016520"/>
                <a:tab algn="r" pos="84088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 and Answ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49440" y="1731960"/>
          <a:ext cx="838512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1731960"/>
                    <a:ext cx="838512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6840" y="365040"/>
            <a:ext cx="51386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4200" y="1025640"/>
            <a:ext cx="8550000" cy="588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P5 de-orbit Lifetime. How long will it take to de-orbit if the probe becomes inope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While not able to calculate this case today, we know that many spacecraft in similar orbits have passively de-orbited. Examples of spacecraft which have reentered from this type orbit include OGO and I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6840" y="365040"/>
            <a:ext cx="51386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4200" y="1025640"/>
            <a:ext cx="8550000" cy="588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Show Calculations on Probe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Dan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6840" y="365040"/>
            <a:ext cx="51386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1025640"/>
            <a:ext cx="8550000" cy="588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Gyro Errors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Bob Vogt to deliver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6840" y="365040"/>
            <a:ext cx="51386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4200" y="1025640"/>
            <a:ext cx="8550000" cy="588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What is the Reliability of the Instrument? What has been the flight failure 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A very quick check of history, says we’ve done pretty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54000" y="2998800"/>
          <a:ext cx="8366040" cy="37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998800"/>
                    <a:ext cx="83660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6840" y="365040"/>
            <a:ext cx="51386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4200" y="1025640"/>
            <a:ext cx="8550000" cy="588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Are Booms Going to be Water Tested in the Basement Hall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prh</cp:lastModifiedBy>
  <dcterms:modified xsi:type="dcterms:W3CDTF">2003-01-29T01:10:00Z</dcterms:modified>
  <cp:revision>208</cp:revision>
  <dc:subject/>
  <dc:title>THEMIS  Science Instruments</dc:title>
</cp:coreProperties>
</file>