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7480" y="96696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747280" y="336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28640" y="295200"/>
            <a:ext cx="2849760" cy="66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"/>
          <p:cNvSpPr/>
          <p:nvPr/>
        </p:nvSpPr>
        <p:spPr>
          <a:xfrm>
            <a:off x="754200" y="7186680"/>
            <a:ext cx="856764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4138560"/>
                <a:tab algn="r" pos="84628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MIS/SITE VISI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- </a:t>
            </a:r>
            <a:fld id="{01C4DCAC-C86B-4B4E-A0F6-E1D3558B3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CB, 01/28/2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7200" y="723420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0200" y="1158840"/>
            <a:ext cx="9449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ummary, THEM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s a fundamental SEC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clear requirements definition and flow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heritage institutions, with PI experience on 3 previous explor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tightly knit team of scientists and engin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large program mar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s a low risk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MIS is key to NASA’s vision to fly Constel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02:13:31Z</dcterms:created>
  <dc:creator>Vassilis Angelopoulos</dc:creator>
  <dc:description/>
  <dc:language>en-US</dc:language>
  <cp:lastModifiedBy>Vassilis Angelopoulos</cp:lastModifiedBy>
  <dcterms:modified xsi:type="dcterms:W3CDTF">2003-01-29T01:26:48Z</dcterms:modified>
  <cp:revision>189</cp:revision>
  <dc:subject/>
  <dc:title>THEMIS  Science Instruments</dc:title>
</cp:coreProperties>
</file>