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58400" cy="77724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509760" indent="-50976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- </a:t>
            </a:r>
            <a:fld id="{01AE059D-C409-4FE9-928E-524630C1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25440" y="1468440"/>
            <a:ext cx="5612040" cy="5354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ter R. Harv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s in Information and Computer Science, University of 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z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F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Exper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9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SEE-1 Electric Fields, ISEE-3 3D Particles, ISEE-3 X-ray, Firewheel, CRRES 701-14, RACOON 86 &amp; 87, Polar EFI, Cluster I &amp; II EFW, FAST IDPU, HESSI, SN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ip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ject Management, Systems Engineering, Digital Electronics, Analog Electronics, Flight Software, Grou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200" y="6908760"/>
            <a:ext cx="8800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322800" y="457200"/>
            <a:ext cx="53640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14_Cut" descr=""/>
          <p:cNvPicPr/>
          <p:nvPr/>
        </p:nvPicPr>
        <p:blipFill>
          <a:blip r:embed="rId1"/>
          <a:stretch/>
        </p:blipFill>
        <p:spPr>
          <a:xfrm>
            <a:off x="503280" y="4664160"/>
            <a:ext cx="3268800" cy="209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3280" y="1641600"/>
            <a:ext cx="3147840" cy="2852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320" y="431280"/>
            <a:ext cx="5364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" y="1468440"/>
            <a:ext cx="938880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Overvi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 Overvi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atic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52320" y="528120"/>
            <a:ext cx="5364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ience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4800" y="1468080"/>
            <a:ext cx="9388800" cy="5613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Science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understand the onset and macroscale (1-10 Re) evolution of magnetospheric substor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provide the first measurements of substorm starting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provide the first measurements of substorm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ng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4749840"/>
          <a:ext cx="8474040" cy="1955880"/>
        </p:xfrm>
        <a:graphic>
          <a:graphicData uri="http://schemas.openxmlformats.org/drawingml/2006/table">
            <a:tbl>
              <a:tblPr/>
              <a:tblGrid>
                <a:gridCol w="4235400"/>
                <a:gridCol w="4238640"/>
              </a:tblGrid>
              <a:tr h="195588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California (UCB, UCL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ales Aerospace Inc. (SA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ddard Space Flight Center (GSF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Colorado (LAS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University of Braunschweig (TU-B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t fur Weltraumforschung der OAW (IW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Space Agency/EST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Calg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Albe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Saint Petersbu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kyo Institute of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320" y="528120"/>
            <a:ext cx="536436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ssion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4800" y="1468440"/>
            <a:ext cx="938880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49932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ssion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hic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II, Eastern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je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1 x 12 Re, 9 degrees incl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gust 2006 (+/- 2 month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pace 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acecraf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 Spinning probes with fuel for orbit/attitude ad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bit Period(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, 2 and 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cliptic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ound Se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tor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 Northern stations for All Sky Imaging and Mag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-415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&amp;T, L&amp;EO (2 mo), Campaigns (Dec-Mar), De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96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ti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53643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y Programmatic Asp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4800" y="1468440"/>
            <a:ext cx="938880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50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atic Over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Team Provides Space, Ground, Data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Team Provides Cost, Schedule, Performance Assur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Team Provides Education/Public Out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and Schedule C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ost Cap for the 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no later than March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ance Assu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EX Qua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23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eritag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Common Buy P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0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Probe/Probe Carrier Simple and Rob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52320" y="457200"/>
            <a:ext cx="53643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81040" y="1143000"/>
            <a:ext cx="9020160" cy="5803920"/>
            <a:chOff x="581040" y="1143000"/>
            <a:chExt cx="9020160" cy="5803920"/>
          </a:xfrm>
        </p:grpSpPr>
        <p:sp>
          <p:nvSpPr>
            <p:cNvPr id="59" name=""/>
            <p:cNvSpPr/>
            <p:nvPr/>
          </p:nvSpPr>
          <p:spPr>
            <a:xfrm>
              <a:off x="581040" y="1143000"/>
              <a:ext cx="9020160" cy="5803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60120" y="1184400"/>
              <a:ext cx="1911240" cy="63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plorers Offi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ission Mg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96920" y="4128120"/>
              <a:ext cx="150876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.Colo/LAS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ob Erg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97640" y="494532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U-B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li Aus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10920" y="4111920"/>
              <a:ext cx="150876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ST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hilippe Escoub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640" y="3210480"/>
              <a:ext cx="152424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Swales Aerospa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ike Cul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96400" y="3010680"/>
              <a:ext cx="0" cy="29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92920" y="5947200"/>
              <a:ext cx="241416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HEMIS Organization Cha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Subcontracts/Agreem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Phases BC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0000" y="2077200"/>
              <a:ext cx="211248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.C. Berkel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assilis Angelopoulos, P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eter Harvey, P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24640" y="2077200"/>
              <a:ext cx="150588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S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Mission Integ Mg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10920" y="321048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E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rtrand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e la Por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20640" y="4930200"/>
              <a:ext cx="15058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SFC/GN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Karen Rich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96400" y="3010680"/>
              <a:ext cx="45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23400" y="3010680"/>
              <a:ext cx="0" cy="22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6400" y="59464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96400" y="5145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6400" y="434520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96400" y="3444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09680" y="3010680"/>
              <a:ext cx="0" cy="21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9680" y="5145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09680" y="434520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09680" y="3444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23400" y="344448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09680" y="281052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43160" y="194292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3160" y="1942920"/>
              <a:ext cx="318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28800" y="194292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24200" y="183456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31120" y="3238560"/>
              <a:ext cx="1508760" cy="7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CL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oe Mea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39400" y="414864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niv of Calg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ric Donov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40120" y="503388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Univ of Alber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. Sams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6480" y="5736960"/>
              <a:ext cx="1508760" cy="70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W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erner Magn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36000" y="523152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36000" y="4357440"/>
              <a:ext cx="2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320" y="452520"/>
            <a:ext cx="53643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388440" cy="5440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5043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Scientific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stantial International Collaborat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 mode projects (HESSI,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2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spacecraft developments (Firewheel, FAST, HE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Systems Engine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ing systems end-to-end (EUVE, FAST, HESSI, C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gineering Interest in Conste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how important this is to future NASA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Instrument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projects (Firewheel, CLUSTER, HE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19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enced Spacecraft 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000" indent="0">
              <a:spcBef>
                <a:spcPts val="49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ing successful EO-1, ready for THE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36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1320" y="4749840"/>
            <a:ext cx="5867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</cp:lastModifiedBy>
  <dcterms:modified xsi:type="dcterms:W3CDTF">2003-01-22T04:08:07Z</dcterms:modified>
  <cp:revision>41</cp:revision>
  <dc:subject/>
  <dc:title>THEMIS  Science Instruments</dc:title>
</cp:coreProperties>
</file>