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- </a:t>
            </a:r>
            <a:fld id="{71D7962E-F4CA-4EE4-AD87-574D98301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: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ffee/Displ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ing Remarks (O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elco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opoul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CB Commi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wales Commit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view Board Char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t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A/H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ZapfDingbats"/>
                <a:ea typeface="ZapfDingbats"/>
              </a:rPr>
              <a:t>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genda Overvie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opoul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: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Overview(S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opoul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Overview (P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v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 (15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: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s and Probe Carrier (PP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jlun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: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(M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vey, Cu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, Sw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ch (45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CUS (35 min; at Annex Conference Ro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Session (at Annex Conference Ro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5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V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91360" y="320760"/>
            <a:ext cx="242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1535040"/>
                <a:tab algn="ctr" pos="4016520"/>
                <a:tab algn="r" pos="84088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ning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295280"/>
            <a:ext cx="89154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8268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il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:5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Instruments (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G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me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S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l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C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F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z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Boom syste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k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DP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strument I&amp;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k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 (15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: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R (1h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: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on I&amp;T (MI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jlun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: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IS Opera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: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nd Based Observatories (GB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verview &amp; Imag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BO Deploy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ov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alg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round Magnetomet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ss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:5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O Prog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:0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Questions (RQ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v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: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luding Remarks (C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opoul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: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#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s, Hors d’oeuv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: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99280" y="341280"/>
            <a:ext cx="242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1535040"/>
                <a:tab algn="ctr" pos="4016520"/>
                <a:tab algn="r" pos="84088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noon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 Angelopoulos</cp:lastModifiedBy>
  <dcterms:modified xsi:type="dcterms:W3CDTF">2003-01-20T18:13:12Z</dcterms:modified>
  <cp:revision>207</cp:revision>
  <dc:subject/>
  <dc:title>THEMIS  Science Instruments</dc:title>
</cp:coreProperties>
</file>