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27.png" ContentType="image/png"/>
  <Override PartName="/ppt/media/image4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7.png" ContentType="image/png"/>
  <Override PartName="/ppt/media/image12.png" ContentType="image/png"/>
  <Override PartName="/ppt/media/image6.wmf" ContentType="image/x-wmf"/>
  <Override PartName="/ppt/media/image8.wmf" ContentType="image/x-wmf"/>
  <Override PartName="/ppt/media/image13.png" ContentType="image/png"/>
  <Override PartName="/ppt/media/image11.png" ContentType="image/png"/>
  <Override PartName="/ppt/media/image9.jpeg" ContentType="image/jpeg"/>
  <Override PartName="/ppt/media/image23.wmf" ContentType="image/x-wmf"/>
  <Override PartName="/ppt/media/image2.png" ContentType="image/png"/>
  <Override PartName="/ppt/media/image25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6.png" ContentType="image/png"/>
  <Override PartName="/ppt/media/image15.png" ContentType="image/png"/>
  <Override PartName="/ppt/media/image18.jpeg" ContentType="image/jpeg"/>
  <Override PartName="/ppt/media/image19.png" ContentType="image/png"/>
  <Override PartName="/ppt/media/image21.png" ContentType="image/png"/>
  <Override PartName="/ppt/media/image20.png" ContentType="image/png"/>
  <Override PartName="/ppt/media/image2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10058400" cy="77724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17480" y="966960"/>
            <a:ext cx="8637480" cy="0"/>
          </a:xfrm>
          <a:prstGeom prst="line">
            <a:avLst/>
          </a:prstGeom>
          <a:ln w="28440">
            <a:solidFill>
              <a:srgbClr val="0000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8747280" y="33660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728640" y="295200"/>
            <a:ext cx="2849760" cy="6606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4" name=""/>
          <p:cNvSpPr/>
          <p:nvPr/>
        </p:nvSpPr>
        <p:spPr>
          <a:xfrm>
            <a:off x="754200" y="7186680"/>
            <a:ext cx="8567640" cy="5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ctr" pos="4138560"/>
                <a:tab algn="r" pos="8462880"/>
                <a:tab algn="l" pos="9172440"/>
                <a:tab algn="l" pos="10191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HEMIS/SITE VISIT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- </a:t>
            </a:r>
            <a:fld id="{B8F9B8B5-8586-433C-9EA8-50647C3E7D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UCB, 01/28/200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27200" y="7234200"/>
            <a:ext cx="8637480" cy="0"/>
          </a:xfrm>
          <a:prstGeom prst="line">
            <a:avLst/>
          </a:prstGeom>
          <a:ln w="28440">
            <a:solidFill>
              <a:srgbClr val="0000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jpeg"/><Relationship Id="rId9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image" Target="../media/image20.png"/><Relationship Id="rId9" Type="http://schemas.openxmlformats.org/officeDocument/2006/relationships/image" Target="../media/image21.png"/><Relationship Id="rId10" Type="http://schemas.openxmlformats.org/officeDocument/2006/relationships/image" Target="../media/image22.png"/><Relationship Id="rId1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179360" y="1139760"/>
            <a:ext cx="721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MIS determines where and how substorms are trigger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79320" y="500040"/>
            <a:ext cx="261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ience Over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897440" y="1952640"/>
            <a:ext cx="4113360" cy="18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 Roadmap: “Understand energy, mass and flux transport in Geospace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 Roadmap: “How does solar variability affect society?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RC, National Academy: A strategic question in space physics (1995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216080" y="1611360"/>
            <a:ext cx="317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storms are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881600" y="1604880"/>
            <a:ext cx="369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to NAS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495680" y="3875040"/>
            <a:ext cx="4684680" cy="30830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1295280" y="4229280"/>
            <a:ext cx="2721240" cy="27208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6373440" y="5046840"/>
            <a:ext cx="2286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6733800" y="5275440"/>
            <a:ext cx="554040" cy="65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7829280" y="5580000"/>
            <a:ext cx="554040" cy="582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297120" y="4714920"/>
            <a:ext cx="90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ro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131600" y="4943520"/>
            <a:ext cx="205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urrent disrup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778160" y="5275440"/>
            <a:ext cx="158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conn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93640" y="6907320"/>
            <a:ext cx="371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roral eruptions are recurrent (~3-6hr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390920" y="6899400"/>
            <a:ext cx="5519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gnetospheric substorms are responsible for auroral eruption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278000" y="1959120"/>
            <a:ext cx="2892240" cy="18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ndamental mode of magnetospheric circ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ortant for geo-storms have societal implicat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ch in new types of basic space plasma physic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311040" y="1000080"/>
            <a:ext cx="9431280" cy="58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ontinued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table is similar to all of the Probe detailed Delta-V and orbit maneuver profiles;  This replacement scenario envelopes P3 and P1’s core maneuvers as well as demonstrating the sequence of maneuvers for the Probe replacement scenar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4" name=""/>
          <p:cNvGraphicFramePr/>
          <p:nvPr/>
        </p:nvGraphicFramePr>
        <p:xfrm>
          <a:off x="345960" y="2411280"/>
          <a:ext cx="9488520" cy="4743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5960" y="2411280"/>
                    <a:ext cx="9488520" cy="474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6" name=""/>
          <p:cNvSpPr/>
          <p:nvPr/>
        </p:nvSpPr>
        <p:spPr>
          <a:xfrm>
            <a:off x="3633120" y="495360"/>
            <a:ext cx="499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s. to Q#1a. Mission &amp;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 profi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3651120" y="500040"/>
            <a:ext cx="497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ssion design meets requir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/>
          </p:nvPr>
        </p:nvSpPr>
        <p:spPr>
          <a:xfrm>
            <a:off x="436320" y="1255680"/>
            <a:ext cx="9418680" cy="55864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ssion pro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o year mission design easily met in this high Earth orbi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unch: D2925 from CCAS (40min window any day) permits 40% lift marg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be carrier (3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tage fixture) w/ flight proven release exceeds load rqm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ience &amp; routine ops and multi-object tracking has ample heritage at UC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N&amp;C benefits from: simple RCS, heritage sfw, ground-cmd, GSFC sup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e de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ple, passive thermal design w/ backup heat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rvival at all attitudes under worst shadows (thermal constant &gt; max shad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ple data flow / automated routine science ops minimize cost and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/Forward 375Mbit/orbit (256Mbyte capability permits multi-orbit storag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bit control &amp; knowledge exceed rqmts by factor of 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titude control &amp; knowledge exceed rqmts by &gt;40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rly EMC/ESC mitigation as per heritage practices (e.g. FAST, POLA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3757680" y="469800"/>
            <a:ext cx="46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science changes since Step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19200" y="1386000"/>
            <a:ext cx="8845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ailed implementation studies during Phase A have increased margins and reduced mission risk relative to step 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822240" y="3070080"/>
            <a:ext cx="8686800" cy="32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il observation season centered closer to equinox (can still launch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n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ay of yr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d substorm event yields (recurrence) by 50% resulted 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…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nimum mission achievable with 1 yr of operations (lowered mission risk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bit apogees/periods optimized (reduced risk of substorm event los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g. altitudes closer to each other and lower than step-1 (improved fuel margi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BO locations in Alaska/Canada optimized (local infrastructure reduced risk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om design and ion ESA design optimized (heritage items reduced risk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itments secured from all international institutes providing flight hardwa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3878280" y="500040"/>
            <a:ext cx="478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grated scientist-engineer te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/>
          </p:nvPr>
        </p:nvSpPr>
        <p:spPr>
          <a:xfrm>
            <a:off x="655560" y="2395440"/>
            <a:ext cx="8623440" cy="46468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is is evidenced by Phase A activiti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ect inject with passive PCA reduces schedule and ops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CA dispense simplified: improves clearances, reduces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reased fuel tank capac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sures P3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1 replacement even at maximum expected dry ma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reased fuel margin (43% for limit case: P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ed solar panels at bottom f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wer positive on all attitu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liminates autonomous safe-mode reor maneuver, reducing ris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S solution simplified with micro-gyros replacing accelerome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CS propulsion pods connected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ssive fuel management streamlines flight oper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plifies I&amp;T, fueling ops and manufacturing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700200" y="1066680"/>
            <a:ext cx="8646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EMIS has a highly integrated team of scientists and engineers interacting efficiently to optimize the mission design and resources, reducing risk and ensuring mission su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762120" y="1449360"/>
            <a:ext cx="85928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e, robust and fault tolerant system de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system and institutional flight herit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phasis on manufacturability and ease of tes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 probability of mission success within resour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647600" y="500040"/>
            <a:ext cx="212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Summary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3809520" y="3112920"/>
            <a:ext cx="259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CKUP SL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4074120" y="469800"/>
            <a:ext cx="42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-orbit requirements are m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25320" y="1517760"/>
            <a:ext cx="8809200" cy="43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Autofit/>
          </a:bodyPr>
          <a:p>
            <a:pPr marL="382680" indent="-382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-entry maneuver at End of Mission (EOM) is i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 bud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-entry of P1 after contingency replacement (by P3/4) is also in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 budge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letion of on-board energy sources at E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clusion zones at GEO and LEO are m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fetime and orbital debris analys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perigee ensures PC +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tage re-en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fetime: 1.7-4.5yrs (depending on: DAS/GTDS, atmos. model, definitive RAP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tal PC + 3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tage casualty area: 1.04 m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3,4,5 probe perigees ensure short lifetime after EOM re-entry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fetimes: 1.6-3.6 yrs (depending on: DAS/GTDS, atmos. model, EOM RAP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tal probe casualty area: 2.68 m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tanks + batte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1, 2 lunar phasing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 for “ma change” at EOM) ensures re-en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fetime: 2.5-10 yrs (depending on actual lunar phase and probe)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311040" y="1000080"/>
            <a:ext cx="896328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ontinued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1 ascend scenari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547440" y="495360"/>
            <a:ext cx="529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s. to Q#1a. P1 Mission &amp;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 pro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11040" y="5192640"/>
            <a:ext cx="951552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914400" indent="-4572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ions assume tank depletion and compute margin avail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parate computation of ACS thrusting for reor and attitude accounted for separate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tal margin (including ACS) is 43% (P1 is worst case of al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&amp;EO computations verified by G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nal apogee raise occurs in 2 steps (duration ~60m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ng duration burns occur with axial thrusting (reor/fire/reor). Short ones with side thru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om P1-4 to P1-5 inclination drops to target inclination (7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 due to lunar perturb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>
            <a:off x="0" y="1306440"/>
            <a:ext cx="10058400" cy="394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311040" y="1000080"/>
            <a:ext cx="896328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ontinued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2 ascend scenari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547440" y="495360"/>
            <a:ext cx="529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s. to Q#1a. P2 Mission &amp;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 pro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11040" y="5364000"/>
            <a:ext cx="9428400" cy="16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914400" indent="-4572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ions assume tank depletion and compute margin avail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parate computation of ACS thrusting for reor and attitude accounted for separate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tal margin (including ACS) is 133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&amp;EO computations verified by G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ng duration burns occur with axial thrusting (reor/fire/reor). Short ones with side thru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om P2-4 to P2-5 inclination drops to target inclination (7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 due to lunar perturb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>
            <a:off x="0" y="1335240"/>
            <a:ext cx="10058400" cy="38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311040" y="1000080"/>
            <a:ext cx="896328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ontinued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3 ascend scenari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547440" y="495360"/>
            <a:ext cx="529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s. to Q#1a. P3 Mission &amp;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 pro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82600" y="4421160"/>
            <a:ext cx="9428040" cy="16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914400" indent="-4572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ions assume tank depletion and compute margin avail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parate computation of ACS thrusting for reor and attitude accounted for separate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tal margin (including ACS) is 1000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&amp;EO computations verified by G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lination change occurs with axial thrusting (reor/fire/reor). Others with side thru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0" y="1376280"/>
            <a:ext cx="1005840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159080" y="3514680"/>
            <a:ext cx="5613480" cy="3692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3776040" y="257040"/>
            <a:ext cx="4709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early identified the mission element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distinguish between substorm mod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1440000" y="1211400"/>
          <a:ext cx="3276360" cy="1515960"/>
        </p:xfrm>
        <a:graphic>
          <a:graphicData uri="http://schemas.openxmlformats.org/drawingml/2006/table">
            <a:tbl>
              <a:tblPr/>
              <a:tblGrid>
                <a:gridCol w="685440"/>
                <a:gridCol w="762120"/>
                <a:gridCol w="1828800"/>
              </a:tblGrid>
              <a:tr h="3070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rrent Disruption Model of Onse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d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 = 0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rrent Disrup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 = 30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roral Erup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 = 60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onnec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2" name=""/>
          <p:cNvGraphicFramePr/>
          <p:nvPr/>
        </p:nvGraphicFramePr>
        <p:xfrm>
          <a:off x="5016600" y="1211400"/>
          <a:ext cx="3440160" cy="1515960"/>
        </p:xfrm>
        <a:graphic>
          <a:graphicData uri="http://schemas.openxmlformats.org/drawingml/2006/table">
            <a:tbl>
              <a:tblPr/>
              <a:tblGrid>
                <a:gridCol w="703440"/>
                <a:gridCol w="938160"/>
                <a:gridCol w="1798560"/>
              </a:tblGrid>
              <a:tr h="52020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ar Earth Reconnection Model of Onse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d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 = 0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onnec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 = 90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rrent Disrup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 = 120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roral Erup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3" name=""/>
          <p:cNvGraphicFramePr/>
          <p:nvPr/>
        </p:nvGraphicFramePr>
        <p:xfrm>
          <a:off x="-14400" y="3062160"/>
          <a:ext cx="4800600" cy="4149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14400" y="3062160"/>
                    <a:ext cx="4800600" cy="414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" name=""/>
          <p:cNvSpPr/>
          <p:nvPr/>
        </p:nvSpPr>
        <p:spPr>
          <a:xfrm>
            <a:off x="542520" y="2843280"/>
            <a:ext cx="3845880" cy="580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round Based Observatories (GBOs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termine auroral breakup within 1-3s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2867040"/>
            <a:ext cx="4521240" cy="1428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ile THEMIS’s probes (five) with orbit periods 1:2:4 days align once per 4 day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ver North America and determine onset of Current Disruption (“CD” at ~10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 and Reconnection (“Rx” at ~25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 each within &lt;10s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713480" y="1141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311040" y="1000080"/>
            <a:ext cx="896328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ontinued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4 ascend scenari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547440" y="495360"/>
            <a:ext cx="529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s. to Q#1a. P4 Mission &amp;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 pro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82600" y="4421160"/>
            <a:ext cx="9428040" cy="16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914400" indent="-4572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ions assume tank depletion and compute margin avail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parate computation of ACS thrusting for reor and attitude accounted for separate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tal margin (including ACS) is 1004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&amp;EO computations verified by G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lination change occurs with axial thrusting (reor/fire/reor). Others with side thru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1"/>
          <a:stretch/>
        </p:blipFill>
        <p:spPr>
          <a:xfrm>
            <a:off x="0" y="1335240"/>
            <a:ext cx="10058400" cy="293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311040" y="1000080"/>
            <a:ext cx="896328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ontinued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5 ascend scenari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547440" y="495360"/>
            <a:ext cx="529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s. to Q#1a. P5 Mission &amp;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 pro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82600" y="4849920"/>
            <a:ext cx="9428040" cy="16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914400" indent="-4572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ions assume tank depletion and compute margin avail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parate computation of ACS thrusting for reor and attitude accounted for separate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tal margin (including ACS) is 73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&amp;EO computations verified by G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lination change occurs with axial thrusting (reor/fire/reor). Others with side thru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>
            <a:off x="0" y="1405080"/>
            <a:ext cx="10058400" cy="339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311040" y="1000080"/>
            <a:ext cx="9431280" cy="58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ontinued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table is similar to all of the Probe detailed Delta-V and orbit maneuver profiles;  This replacement scenario envelopes P3 and P1’s core maneuvers as well as demonstrating the sequence of maneuvers for the Probe replacement scenar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633120" y="500040"/>
            <a:ext cx="491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s. to Q#1a. P3-&gt;P1 replac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>
            <a:off x="0" y="2295360"/>
            <a:ext cx="10058400" cy="39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3565800" y="165240"/>
            <a:ext cx="5295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ience requirements accommodate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robust mission de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61680" y="1083960"/>
            <a:ext cx="8685000" cy="69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ctr" pos="1535040"/>
                <a:tab algn="ctr" pos="4016520"/>
                <a:tab algn="r" pos="84088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MIS’s instruments, constellation strategy and operation plans have inherent redundancies that ensure mission suc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25600" y="1984320"/>
            <a:ext cx="9010440" cy="50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Autofit/>
          </a:bodyPr>
          <a:p>
            <a:pPr marL="382680" indent="-382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rument capability overlap and identical probes permit graceful probe degradation with no effect on science closu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PF of 4 probes in 1 year with robust replacement capability of P1/2/3 by P3/4 ensures high reliabilit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il-safe nature of probes and mission ops bestow THEMIS resilienc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und-operated with on-board watchdog timeou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rol center “disaster” backup plan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multiple backup s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an emergency, autonomous routin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s &amp; multi-orbit storag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mit attention to be focus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anomaly resolu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uce risk of operator overlo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uarantee science data recover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anomaly is being resolv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mission single point failure after D2925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bit insertion (see fault tree diagram in CS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5899320" y="3855960"/>
            <a:ext cx="3662280" cy="2747880"/>
            <a:chOff x="5899320" y="3855960"/>
            <a:chExt cx="3662280" cy="2747880"/>
          </a:xfrm>
        </p:grpSpPr>
        <p:grpSp>
          <p:nvGrpSpPr>
            <p:cNvPr id="297" name=""/>
            <p:cNvGrpSpPr/>
            <p:nvPr/>
          </p:nvGrpSpPr>
          <p:grpSpPr>
            <a:xfrm>
              <a:off x="5962680" y="4233600"/>
              <a:ext cx="3533400" cy="2323800"/>
              <a:chOff x="5962680" y="4233600"/>
              <a:chExt cx="3533400" cy="2323800"/>
            </a:xfrm>
          </p:grpSpPr>
          <p:pic>
            <p:nvPicPr>
              <p:cNvPr id="298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5962680" y="4233600"/>
                <a:ext cx="3533400" cy="2323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9" name=""/>
              <p:cNvSpPr/>
              <p:nvPr/>
            </p:nvSpPr>
            <p:spPr>
              <a:xfrm>
                <a:off x="6703200" y="4276080"/>
                <a:ext cx="2136960" cy="7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0" name=""/>
            <p:cNvSpPr/>
            <p:nvPr/>
          </p:nvSpPr>
          <p:spPr>
            <a:xfrm>
              <a:off x="5929560" y="3873240"/>
              <a:ext cx="3596040" cy="3373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HEMIS fault-tree diagram (see CSR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899320" y="3855960"/>
              <a:ext cx="3662280" cy="274788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4850640" y="500040"/>
            <a:ext cx="276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ience Object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85720" y="1173240"/>
            <a:ext cx="8937720" cy="59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IS HAS FOCUSED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MINIMUM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cc99"/>
                </a:solidFill>
                <a:latin typeface="Arial"/>
              </a:rPr>
              <a:t>TO BASELIN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OBJECTIV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Arial"/>
              </a:rPr>
              <a:t>Time History of Events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"/>
              </a:rPr>
              <a:t>Auroral breakup (on the groun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"/>
              </a:rPr>
              <a:t>Current Disruption [CD] (2 probes at ~10R</a:t>
            </a:r>
            <a:r>
              <a:rPr b="0" lang="en-US" sz="1600" spc="-1" strike="noStrike" baseline="-25000">
                <a:solidFill>
                  <a:srgbClr val="ff3300"/>
                </a:solidFill>
                <a:latin typeface="Arial"/>
              </a:rPr>
              <a:t>E</a:t>
            </a:r>
            <a:r>
              <a:rPr b="0" lang="en-US" sz="1600" spc="-1" strike="noStrike">
                <a:solidFill>
                  <a:srgbClr val="ff3300"/>
                </a:solidFill>
                <a:latin typeface="Arial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"/>
              </a:rPr>
              <a:t>Reconnection [Rx] (2 probes at ~20-30R</a:t>
            </a:r>
            <a:r>
              <a:rPr b="0" lang="en-US" sz="1600" spc="-1" strike="noStrike" baseline="-25000">
                <a:solidFill>
                  <a:srgbClr val="ff3300"/>
                </a:solidFill>
                <a:latin typeface="Arial"/>
              </a:rPr>
              <a:t>E</a:t>
            </a:r>
            <a:r>
              <a:rPr b="0" lang="en-US" sz="1600" spc="-1" strike="noStrike">
                <a:solidFill>
                  <a:srgbClr val="ff33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ff3300"/>
                </a:solidFill>
                <a:latin typeface="Arial"/>
              </a:rPr>
              <a:t>… </a:t>
            </a:r>
            <a:r>
              <a:rPr b="1" i="1" lang="en-US" sz="2000" spc="-1" strike="noStrike">
                <a:solidFill>
                  <a:srgbClr val="ff3300"/>
                </a:solidFill>
                <a:latin typeface="Arial"/>
              </a:rPr>
              <a:t>and Macroscale Interactions during &gt;5 </a:t>
            </a:r>
            <a:r>
              <a:rPr b="1" i="1" lang="en-US" sz="2000" spc="-1" strike="noStrike">
                <a:solidFill>
                  <a:srgbClr val="00cc99"/>
                </a:solidFill>
                <a:latin typeface="Arial"/>
              </a:rPr>
              <a:t>(&gt;10)</a:t>
            </a:r>
            <a:r>
              <a:rPr b="1" i="1" lang="en-US" sz="2000" spc="-1" strike="noStrike">
                <a:solidFill>
                  <a:srgbClr val="ff3300"/>
                </a:solidFill>
                <a:latin typeface="Arial"/>
              </a:rPr>
              <a:t> Substorms (Primary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"/>
              </a:rPr>
              <a:t>Current Disruption and Reconnection coup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buClr>
                <a:srgbClr val="ff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Outward motion (1600km/s) of rarefaction wav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buClr>
                <a:srgbClr val="ff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Inward motion of flows (1000km/s) and Poynting flu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"/>
              </a:rPr>
              <a:t>Ionospheric coup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buClr>
                <a:srgbClr val="ff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Cross-tail current reduction (P5u/P4) vs flow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buClr>
                <a:srgbClr val="ff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Field aligned current generation by flow vorticity, pressure gradients (</a:t>
            </a:r>
            <a:r>
              <a:rPr b="0" lang="en-US" sz="1400" spc="-1" strike="noStrike">
                <a:solidFill>
                  <a:srgbClr val="ff3300"/>
                </a:solidFill>
                <a:latin typeface="Symbol"/>
                <a:ea typeface="Symbol"/>
              </a:rPr>
              <a:t></a:t>
            </a: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P/dz, </a:t>
            </a:r>
            <a:r>
              <a:rPr b="0" lang="en-US" sz="1400" spc="-1" strike="noStrike">
                <a:solidFill>
                  <a:srgbClr val="ff3300"/>
                </a:solidFill>
                <a:latin typeface="Symbol"/>
                <a:ea typeface="Symbol"/>
              </a:rPr>
              <a:t></a:t>
            </a: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P/dx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cc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99"/>
                </a:solidFill>
                <a:latin typeface="Arial"/>
              </a:rPr>
              <a:t>Cross-scale coupling to local m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buClr>
                <a:srgbClr val="00cc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cc99"/>
                </a:solidFill>
                <a:latin typeface="Arial"/>
              </a:rPr>
              <a:t>Field line resonances  (10R</a:t>
            </a:r>
            <a:r>
              <a:rPr b="0" lang="en-US" sz="1400" spc="-1" strike="noStrike" baseline="-25000">
                <a:solidFill>
                  <a:srgbClr val="00cc99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cc99"/>
                </a:solidFill>
                <a:latin typeface="Arial"/>
              </a:rPr>
              <a:t>, 5 mi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buClr>
                <a:srgbClr val="00cc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cc99"/>
                </a:solidFill>
                <a:latin typeface="Arial"/>
              </a:rPr>
              <a:t>Ballooning modes, KH waves (1R</a:t>
            </a:r>
            <a:r>
              <a:rPr b="0" lang="en-US" sz="1400" spc="-1" strike="noStrike" baseline="-25000">
                <a:solidFill>
                  <a:srgbClr val="00cc99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cc99"/>
                </a:solidFill>
                <a:latin typeface="Arial"/>
              </a:rPr>
              <a:t>, 1mi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buClr>
                <a:srgbClr val="00cc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cc99"/>
                </a:solidFill>
                <a:latin typeface="Arial"/>
              </a:rPr>
              <a:t>Weibel instability, cross-field current instability, kinetic Alfven waves (0.1R</a:t>
            </a:r>
            <a:r>
              <a:rPr b="0" lang="en-US" sz="1400" spc="-1" strike="noStrike" baseline="-25000">
                <a:solidFill>
                  <a:srgbClr val="00cc99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cc99"/>
                </a:solidFill>
                <a:latin typeface="Arial"/>
              </a:rPr>
              <a:t>, 6Hz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cc99"/>
                </a:solidFill>
                <a:latin typeface="Arial"/>
              </a:rPr>
              <a:t>Production of storm time MeV electrons (Secondar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cc99"/>
                </a:solidFill>
                <a:latin typeface="Arial"/>
              </a:rPr>
              <a:t>Control of solar wind-magnetosphere coupling by the bow-shock, magnetosheath and magnetopause (Tertiar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6257880" y="2023920"/>
            <a:ext cx="3316320" cy="51818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3653640" y="500040"/>
            <a:ext cx="498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e conjunctions well underst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61880" y="1109520"/>
            <a:ext cx="8534520" cy="413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Arial"/>
              </a:rPr>
              <a:t>BASELINE: &gt;10 substorms achieved w/ 5 probes in 2 yrs &amp; 50% margi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MINIMUM: &gt;5 substorms achieved in 1yr w/ 4 probes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utations include lunar, solar, drag, J2 te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P1/2/3/4/5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±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P3,4,5/N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±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P1,2/N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±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cent design is optimal for sci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ximizes conjunctions, minimizes shado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mune to launch insertion err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mall, piece-wise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s increase placement fidel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immune to probe insertion error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n withstand insertion error of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=80cm/s on any prob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797520" y="1879560"/>
            <a:ext cx="252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ff"/>
                </a:solidFill>
                <a:latin typeface="Arial"/>
              </a:rPr>
              <a:t>Actual conjunction times in 1</a:t>
            </a:r>
            <a:r>
              <a:rPr b="0" lang="en-US" sz="1200" spc="-1" strike="noStrike" baseline="30000">
                <a:solidFill>
                  <a:srgbClr val="0066ff"/>
                </a:solidFill>
                <a:latin typeface="Arial"/>
              </a:rPr>
              <a:t>st</a:t>
            </a:r>
            <a:r>
              <a:rPr b="0" lang="en-US" sz="1200" spc="-1" strike="noStrike">
                <a:solidFill>
                  <a:srgbClr val="0066ff"/>
                </a:solidFill>
                <a:latin typeface="Arial"/>
              </a:rPr>
              <a:t> y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738360" y="5246640"/>
          <a:ext cx="3773160" cy="18320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38360" y="5246640"/>
                    <a:ext cx="3773160" cy="183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ITEM-10j" descr=""/>
          <p:cNvPicPr/>
          <p:nvPr/>
        </p:nvPicPr>
        <p:blipFill>
          <a:blip r:embed="rId1"/>
          <a:stretch/>
        </p:blipFill>
        <p:spPr>
          <a:xfrm>
            <a:off x="4965840" y="1339920"/>
            <a:ext cx="4713120" cy="523548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6152040" y="4064040"/>
            <a:ext cx="70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763040" y="3387600"/>
            <a:ext cx="75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rot="18358800">
            <a:off x="8877240" y="17942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F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759720" y="148104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F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8344800" y="5499000"/>
            <a:ext cx="84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G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449400" y="23544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H="1" flipV="1">
            <a:off x="8894520" y="1666800"/>
            <a:ext cx="29988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485120" y="1855800"/>
            <a:ext cx="33984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353200" y="228600"/>
            <a:ext cx="3423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ritage instruments exceed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ience requir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73120" y="1089000"/>
            <a:ext cx="9104400" cy="60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ruments easy to assemble and t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luxgate Magnetometer (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G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lectroStatic Analyzer (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S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lid State Telescope (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S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[Composed of 2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ds (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STh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arch Coil Magnetometer (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lectric Field Instrument (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F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[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ial (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FI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, 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n-plane (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FI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 booms]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…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place clear and simple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     requirements on prob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pin period (T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p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=3s) accommodates cadence (&lt;10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itude control (5.6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, knowledge (1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, short-term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bility (0.1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 from &lt;10% error in V, ExB, B, J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MC, ESC, thermal requirements/verification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 on FAST, POLAR, WIND, LP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0640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882720" y="5675400"/>
          <a:ext cx="3335400" cy="1479240"/>
        </p:xfrm>
        <a:graphic>
          <a:graphicData uri="http://schemas.openxmlformats.org/drawingml/2006/table">
            <a:tbl>
              <a:tblPr/>
              <a:tblGrid>
                <a:gridCol w="1806480"/>
                <a:gridCol w="746280"/>
                <a:gridCol w="782640"/>
              </a:tblGrid>
              <a:tr h="295200">
                <a:tc>
                  <a:txBody>
                    <a:bodyPr lIns="18360" rIns="18360" tIns="18360" bIns="1836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trument Rqmts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8360" marR="183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360" rIns="18360" tIns="18360" bIns="1836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8360" marR="18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360" rIns="18360" tIns="18360" bIns="1836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w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8360" marR="183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6640">
                <a:tc>
                  <a:txBody>
                    <a:bodyPr lIns="18360" rIns="18360" tIns="18360" bIns="1836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di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8360" marR="183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360" rIns="18360" tIns="18360" bIns="1836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.0 k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8360" marR="18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360" rIns="18360" tIns="18360" bIns="1836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1 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8360" marR="183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7000">
                <a:tc>
                  <a:txBody>
                    <a:bodyPr lIns="18360" rIns="18360" tIns="18360" bIns="1836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er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8360" marR="183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360" rIns="18360" tIns="18360" bIns="1836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8360" marR="18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360" rIns="18360" tIns="18360" bIns="1836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.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8360" marR="183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200">
                <a:tc>
                  <a:txBody>
                    <a:bodyPr lIns="18360" rIns="18360" tIns="18360" bIns="1836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 expec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8360" marR="183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360" rIns="18360" tIns="18360" bIns="1836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.7 k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8360" marR="18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360" rIns="18360" tIns="18360" bIns="1836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.7 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8360" marR="183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200">
                <a:tc>
                  <a:txBody>
                    <a:bodyPr lIns="18360" rIns="18360" tIns="18360" bIns="1836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g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8360" marR="183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360" rIns="18360" tIns="18360" bIns="1836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.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8360" marR="18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360" rIns="18360" tIns="18360" bIns="1836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.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8360" marR="183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5093640" y="271440"/>
            <a:ext cx="3649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umber of instruments exceed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asurement requir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00120" y="1030320"/>
            <a:ext cx="87660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cal instrumentation provides high science margins and fault toler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3733920" y="1581120"/>
          <a:ext cx="5903640" cy="5429160"/>
        </p:xfrm>
        <a:graphic>
          <a:graphicData uri="http://schemas.openxmlformats.org/drawingml/2006/table">
            <a:tbl>
              <a:tblPr/>
              <a:tblGrid>
                <a:gridCol w="533160"/>
                <a:gridCol w="1981440"/>
                <a:gridCol w="674640"/>
                <a:gridCol w="668160"/>
                <a:gridCol w="681120"/>
                <a:gridCol w="682560"/>
                <a:gridCol w="682560"/>
              </a:tblGrid>
              <a:tr h="337320">
                <a:tc gridSpan="7"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truments required to achieve Primary Mission Objectiv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asurement goal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2138040">
                <a:tc>
                  <a:txBody>
                    <a:bodyPr lIns="45720" rIns="45720" tIns="46800" bIns="46800" anchor="t" vert="eaVer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me History of Even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P3,4&amp;5 monitor CD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P1,2 bracket Rx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t</a:t>
                      </a:r>
                      <a:r>
                        <a:rPr b="0" lang="en-US" sz="1400" spc="-1" strike="noStrike" baseline="-25000">
                          <a:solidFill>
                            <a:srgbClr val="ff3300"/>
                          </a:solidFill>
                          <a:latin typeface="Arial"/>
                        </a:rPr>
                        <a:t>res</a:t>
                      </a:r>
                      <a:r>
                        <a:rPr b="0" lang="en-US" sz="1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&lt;30s, </a:t>
                      </a:r>
                      <a:r>
                        <a:rPr b="0" lang="en-US" sz="1400" spc="-1" strike="noStrike">
                          <a:solidFill>
                            <a:srgbClr val="ff3300"/>
                          </a:solidFill>
                          <a:latin typeface="Symbol"/>
                          <a:ea typeface="Symbol"/>
                        </a:rPr>
                        <a:t></a:t>
                      </a:r>
                      <a:r>
                        <a:rPr b="0" lang="en-US" sz="1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Y&lt;</a:t>
                      </a:r>
                      <a:r>
                        <a:rPr b="0" lang="en-US" sz="14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±</a:t>
                      </a:r>
                      <a:r>
                        <a:rPr b="0" lang="en-US" sz="1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2R</a:t>
                      </a:r>
                      <a:r>
                        <a:rPr b="0" lang="en-US" sz="1400" spc="-1" strike="noStrike" baseline="-25000">
                          <a:solidFill>
                            <a:srgbClr val="ff3300"/>
                          </a:solidFill>
                          <a:latin typeface="Arial"/>
                        </a:rPr>
                        <a:t>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FG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2SST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2EF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FG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ES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2SST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2EF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FG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ES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1SST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400" spc="-1" strike="noStrike">
                          <a:solidFill>
                            <a:srgbClr val="00cc99"/>
                          </a:solidFill>
                          <a:latin typeface="Arial"/>
                        </a:rPr>
                        <a:t>FG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400" spc="-1" strike="noStrike">
                          <a:solidFill>
                            <a:srgbClr val="00cc99"/>
                          </a:solidFill>
                          <a:latin typeface="Arial"/>
                        </a:rPr>
                        <a:t>ES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400" spc="-1" strike="noStrike">
                          <a:solidFill>
                            <a:srgbClr val="00cc99"/>
                          </a:solidFill>
                          <a:latin typeface="Arial"/>
                        </a:rPr>
                        <a:t>1SST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FG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ES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1SST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440">
                <a:tc rowSpan="3">
                  <a:txBody>
                    <a:bodyPr lIns="45720" rIns="45720" tIns="46800" bIns="46800" anchor="t" vert="eaVer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croscale Interac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Track rarefaction wave, inward flows, Poynting with </a:t>
                      </a:r>
                      <a:r>
                        <a:rPr b="0" lang="en-US" sz="1400" spc="-1" strike="noStrike">
                          <a:solidFill>
                            <a:srgbClr val="ff3300"/>
                          </a:solidFill>
                          <a:latin typeface="Symbol"/>
                          <a:ea typeface="Symbol"/>
                        </a:rPr>
                        <a:t></a:t>
                      </a:r>
                      <a:r>
                        <a:rPr b="0" lang="en-US" sz="1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B&lt;1nT, </a:t>
                      </a:r>
                      <a:r>
                        <a:rPr b="0" lang="en-US" sz="1400" spc="-1" strike="noStrike">
                          <a:solidFill>
                            <a:srgbClr val="ff3300"/>
                          </a:solidFill>
                          <a:latin typeface="Symbol"/>
                          <a:ea typeface="Symbol"/>
                        </a:rPr>
                        <a:t></a:t>
                      </a:r>
                      <a:r>
                        <a:rPr b="0" lang="en-US" sz="1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V/V~1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FG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ES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FG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ES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400" spc="-1" strike="noStrike">
                          <a:solidFill>
                            <a:srgbClr val="00cc99"/>
                          </a:solidFill>
                          <a:latin typeface="Arial"/>
                        </a:rPr>
                        <a:t>FG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400" spc="-1" strike="noStrike">
                          <a:solidFill>
                            <a:srgbClr val="00cc99"/>
                          </a:solidFill>
                          <a:latin typeface="Arial"/>
                        </a:rPr>
                        <a:t>ES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FG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ES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9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Radial/cross-sheet pressure, velocity and current gradients require </a:t>
                      </a:r>
                      <a:r>
                        <a:rPr b="0" lang="en-US" sz="1400" spc="-1" strike="noStrike">
                          <a:solidFill>
                            <a:srgbClr val="ff3300"/>
                          </a:solidFill>
                          <a:latin typeface="Symbol"/>
                          <a:ea typeface="Symbol"/>
                        </a:rPr>
                        <a:t></a:t>
                      </a:r>
                      <a:r>
                        <a:rPr b="0" lang="en-US" sz="1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P/P~ </a:t>
                      </a:r>
                      <a:r>
                        <a:rPr b="0" lang="en-US" sz="1400" spc="-1" strike="noStrike">
                          <a:solidFill>
                            <a:srgbClr val="ff3300"/>
                          </a:solidFill>
                          <a:latin typeface="Symbol"/>
                          <a:ea typeface="Symbol"/>
                        </a:rPr>
                        <a:t></a:t>
                      </a:r>
                      <a:r>
                        <a:rPr b="0" lang="en-US" sz="1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V/V ~ </a:t>
                      </a:r>
                      <a:r>
                        <a:rPr b="0" lang="en-US" sz="1400" spc="-1" strike="noStrike">
                          <a:solidFill>
                            <a:srgbClr val="ff3300"/>
                          </a:solidFill>
                          <a:latin typeface="Symbol"/>
                          <a:ea typeface="Symbol"/>
                        </a:rPr>
                        <a:t></a:t>
                      </a:r>
                      <a:r>
                        <a:rPr b="0" lang="en-US" sz="1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B/B ~10%, non-MH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FG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ES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FG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ES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2EF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400" spc="-1" strike="noStrike">
                          <a:solidFill>
                            <a:srgbClr val="00cc99"/>
                          </a:solidFill>
                          <a:latin typeface="Arial"/>
                        </a:rPr>
                        <a:t>FG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400" spc="-1" strike="noStrike">
                          <a:solidFill>
                            <a:srgbClr val="00cc99"/>
                          </a:solidFill>
                          <a:latin typeface="Arial"/>
                        </a:rPr>
                        <a:t>ES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400" spc="-1" strike="noStrike">
                          <a:solidFill>
                            <a:srgbClr val="00cc99"/>
                          </a:solidFill>
                          <a:latin typeface="Arial"/>
                        </a:rPr>
                        <a:t>2EF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FG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ES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2EF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8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400" spc="-1" strike="noStrike">
                          <a:solidFill>
                            <a:srgbClr val="00cc99"/>
                          </a:solidFill>
                          <a:latin typeface="Arial"/>
                        </a:rPr>
                        <a:t>Cross-tail pairs measure FLRs, KH, ballooning on B, V, P @ 10s and fast modes on B</a:t>
                      </a:r>
                      <a:r>
                        <a:rPr b="0" lang="en-US" sz="1400" spc="-1" strike="noStrike" baseline="-25000">
                          <a:solidFill>
                            <a:srgbClr val="00cc99"/>
                          </a:solidFill>
                          <a:latin typeface="Arial"/>
                        </a:rPr>
                        <a:t>xyz</a:t>
                      </a:r>
                      <a:r>
                        <a:rPr b="0" lang="en-US" sz="1400" spc="-1" strike="noStrike">
                          <a:solidFill>
                            <a:srgbClr val="00cc99"/>
                          </a:solidFill>
                          <a:latin typeface="Arial"/>
                        </a:rPr>
                        <a:t> and E</a:t>
                      </a:r>
                      <a:r>
                        <a:rPr b="0" lang="en-US" sz="1400" spc="-1" strike="noStrike" baseline="-25000">
                          <a:solidFill>
                            <a:srgbClr val="00cc99"/>
                          </a:solidFill>
                          <a:latin typeface="Arial"/>
                        </a:rPr>
                        <a:t>xy</a:t>
                      </a:r>
                      <a:r>
                        <a:rPr b="0" lang="en-US" sz="1400" spc="-1" strike="noStrike">
                          <a:solidFill>
                            <a:srgbClr val="00cc99"/>
                          </a:solidFill>
                          <a:latin typeface="Arial"/>
                        </a:rPr>
                        <a:t> @ 6Hz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400" spc="-1" strike="noStrike">
                          <a:solidFill>
                            <a:srgbClr val="00cc99"/>
                          </a:solidFill>
                          <a:latin typeface="Arial"/>
                        </a:rPr>
                        <a:t>FGM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cc99"/>
                          </a:solidFill>
                          <a:latin typeface="Arial"/>
                        </a:rPr>
                        <a:t>ESA  SC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400" spc="-1" strike="noStrike">
                          <a:solidFill>
                            <a:srgbClr val="00cc99"/>
                          </a:solidFill>
                          <a:latin typeface="Arial"/>
                        </a:rPr>
                        <a:t>FGM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cc99"/>
                          </a:solidFill>
                          <a:latin typeface="Arial"/>
                        </a:rPr>
                        <a:t>ESA SCM 4EFIs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cc99"/>
                          </a:solidFill>
                          <a:latin typeface="Arial"/>
                        </a:rPr>
                        <a:t>2EF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400" spc="-1" strike="noStrike">
                          <a:solidFill>
                            <a:srgbClr val="00cc99"/>
                          </a:solidFill>
                          <a:latin typeface="Arial"/>
                        </a:rPr>
                        <a:t>FGM ESA </a:t>
                      </a:r>
                      <a:br>
                        <a:rPr sz="1400"/>
                      </a:b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cc99"/>
                          </a:solidFill>
                          <a:latin typeface="Arial"/>
                        </a:rPr>
                        <a:t>2EF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400" spc="-1" strike="noStrike">
                          <a:solidFill>
                            <a:srgbClr val="00cc99"/>
                          </a:solidFill>
                          <a:latin typeface="Arial"/>
                        </a:rPr>
                        <a:t>FGM ESA SCM 4EFIs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cc99"/>
                          </a:solidFill>
                          <a:latin typeface="Arial"/>
                        </a:rPr>
                        <a:t>2EF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1" name=""/>
          <p:cNvSpPr/>
          <p:nvPr/>
        </p:nvSpPr>
        <p:spPr>
          <a:xfrm>
            <a:off x="574560" y="1552680"/>
            <a:ext cx="308304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rument redundanc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ST-ESA energy overl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GM-SCM frequency overl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1/P2 redundant instrumentation (only directional flux needed in one of two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probe ha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G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S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SSTh (2head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C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EFIa (2axial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EFIs (4spin pla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509840" y="4076640"/>
            <a:ext cx="1684080" cy="132084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4694040" y="500040"/>
            <a:ext cx="40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ssion elements are 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154480" y="3787920"/>
            <a:ext cx="2901960" cy="1509480"/>
          </a:xfrm>
          <a:prstGeom prst="rect">
            <a:avLst/>
          </a:prstGeom>
          <a:solidFill>
            <a:srgbClr val="fcf8c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8501040" y="1835280"/>
            <a:ext cx="536760" cy="3999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8756640" y="2408400"/>
            <a:ext cx="304920" cy="3841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6613560" y="3122640"/>
            <a:ext cx="71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772240" y="3854520"/>
            <a:ext cx="174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THEMIS O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249880" y="4289400"/>
            <a:ext cx="134460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sn O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263560" y="4835520"/>
            <a:ext cx="132660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ight Dy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702480" y="4830840"/>
            <a:ext cx="125712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i. O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715080" y="4297320"/>
            <a:ext cx="125532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GS O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416920" y="311616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2302200" y="1522440"/>
            <a:ext cx="2302200" cy="2546640"/>
            <a:chOff x="2302200" y="1522440"/>
            <a:chExt cx="2302200" cy="2546640"/>
          </a:xfrm>
        </p:grpSpPr>
        <p:grpSp>
          <p:nvGrpSpPr>
            <p:cNvPr id="105" name=""/>
            <p:cNvGrpSpPr/>
            <p:nvPr/>
          </p:nvGrpSpPr>
          <p:grpSpPr>
            <a:xfrm>
              <a:off x="2562120" y="1522440"/>
              <a:ext cx="1756080" cy="2058840"/>
              <a:chOff x="2562120" y="1522440"/>
              <a:chExt cx="1756080" cy="205884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3912480" y="2408400"/>
                <a:ext cx="334440" cy="300960"/>
                <a:chOff x="3912480" y="2408400"/>
                <a:chExt cx="334440" cy="300960"/>
              </a:xfrm>
            </p:grpSpPr>
            <p:sp>
              <p:nvSpPr>
                <p:cNvPr id="107" name=""/>
                <p:cNvSpPr/>
                <p:nvPr/>
              </p:nvSpPr>
              <p:spPr>
                <a:xfrm flipH="1" rot="5400000">
                  <a:off x="4176000" y="2525400"/>
                  <a:ext cx="82080" cy="58680"/>
                </a:xfrm>
                <a:custGeom>
                  <a:avLst/>
                  <a:gdLst>
                    <a:gd name="textAreaLeft" fmla="*/ 18000 w 82080"/>
                    <a:gd name="textAreaRight" fmla="*/ 64080 w 82080"/>
                    <a:gd name="textAreaTop" fmla="*/ 12960 h 58680"/>
                    <a:gd name="textAreaBottom" fmla="*/ 45720 h 58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0" y="21600"/>
                      </a:lnTo>
                      <a:lnTo>
                        <a:pt x="5400" y="216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040" bIns="-14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3912480" y="2408400"/>
                  <a:ext cx="277200" cy="3009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9" name=""/>
              <p:cNvSpPr/>
              <p:nvPr/>
            </p:nvSpPr>
            <p:spPr>
              <a:xfrm flipH="1" rot="5400000">
                <a:off x="4170960" y="2583720"/>
                <a:ext cx="82080" cy="58680"/>
              </a:xfrm>
              <a:custGeom>
                <a:avLst/>
                <a:gdLst>
                  <a:gd name="textAreaLeft" fmla="*/ 18000 w 82080"/>
                  <a:gd name="textAreaRight" fmla="*/ 64080 w 82080"/>
                  <a:gd name="textAreaTop" fmla="*/ 12960 h 58680"/>
                  <a:gd name="textAreaBottom" fmla="*/ 45720 h 586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040" bIns="-14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62120" y="2087640"/>
                <a:ext cx="1754640" cy="1493640"/>
              </a:xfrm>
              <a:prstGeom prst="rect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4040640" y="2593800"/>
                <a:ext cx="277560" cy="3006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3450960" y="1522440"/>
                <a:ext cx="144000" cy="216720"/>
              </a:xfrm>
              <a:prstGeom prst="rect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3450960" y="1582920"/>
                <a:ext cx="144000" cy="80640"/>
              </a:xfrm>
              <a:prstGeom prst="rect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840" bIns="33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3411000" y="1734840"/>
                <a:ext cx="39600" cy="60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3594960" y="1739160"/>
                <a:ext cx="39600" cy="60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3483000" y="1740600"/>
                <a:ext cx="74520" cy="345240"/>
              </a:xfrm>
              <a:prstGeom prst="rect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17" name=""/>
              <p:cNvCxnSpPr>
                <a:stCxn id="116" idx="0"/>
              </p:cNvCxnSpPr>
              <p:nvPr/>
            </p:nvCxnSpPr>
            <p:spPr>
              <a:xfrm>
                <a:off x="3520080" y="1740240"/>
                <a:ext cx="1800" cy="510840"/>
              </a:xfrm>
              <a:prstGeom prst="straightConnector1">
                <a:avLst/>
              </a:prstGeom>
              <a:ln w="15840">
                <a:solidFill>
                  <a:srgbClr val="000000"/>
                </a:solidFill>
                <a:miter/>
              </a:ln>
            </p:spPr>
          </p:cxnSp>
        </p:grpSp>
        <p:grpSp>
          <p:nvGrpSpPr>
            <p:cNvPr id="118" name=""/>
            <p:cNvGrpSpPr/>
            <p:nvPr/>
          </p:nvGrpSpPr>
          <p:grpSpPr>
            <a:xfrm>
              <a:off x="2615400" y="1585800"/>
              <a:ext cx="1756440" cy="2058840"/>
              <a:chOff x="2615400" y="1585800"/>
              <a:chExt cx="1756440" cy="2058840"/>
            </a:xfrm>
          </p:grpSpPr>
          <p:grpSp>
            <p:nvGrpSpPr>
              <p:cNvPr id="119" name=""/>
              <p:cNvGrpSpPr/>
              <p:nvPr/>
            </p:nvGrpSpPr>
            <p:grpSpPr>
              <a:xfrm>
                <a:off x="3965760" y="2471760"/>
                <a:ext cx="334440" cy="300960"/>
                <a:chOff x="3965760" y="2471760"/>
                <a:chExt cx="334440" cy="300960"/>
              </a:xfrm>
            </p:grpSpPr>
            <p:sp>
              <p:nvSpPr>
                <p:cNvPr id="120" name=""/>
                <p:cNvSpPr/>
                <p:nvPr/>
              </p:nvSpPr>
              <p:spPr>
                <a:xfrm flipH="1" rot="5400000">
                  <a:off x="4229280" y="2588760"/>
                  <a:ext cx="82080" cy="58680"/>
                </a:xfrm>
                <a:custGeom>
                  <a:avLst/>
                  <a:gdLst>
                    <a:gd name="textAreaLeft" fmla="*/ 18000 w 82080"/>
                    <a:gd name="textAreaRight" fmla="*/ 64080 w 82080"/>
                    <a:gd name="textAreaTop" fmla="*/ 12960 h 58680"/>
                    <a:gd name="textAreaBottom" fmla="*/ 45720 h 58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0" y="21600"/>
                      </a:lnTo>
                      <a:lnTo>
                        <a:pt x="5400" y="216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040" bIns="-14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965760" y="2471760"/>
                  <a:ext cx="277200" cy="3009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" name=""/>
              <p:cNvSpPr/>
              <p:nvPr/>
            </p:nvSpPr>
            <p:spPr>
              <a:xfrm flipH="1" rot="5400000">
                <a:off x="4224600" y="2647080"/>
                <a:ext cx="82080" cy="58680"/>
              </a:xfrm>
              <a:custGeom>
                <a:avLst/>
                <a:gdLst>
                  <a:gd name="textAreaLeft" fmla="*/ 18000 w 82080"/>
                  <a:gd name="textAreaRight" fmla="*/ 64080 w 82080"/>
                  <a:gd name="textAreaTop" fmla="*/ 12960 h 58680"/>
                  <a:gd name="textAreaBottom" fmla="*/ 45720 h 586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040" bIns="-14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615400" y="2151000"/>
                <a:ext cx="1755000" cy="1493640"/>
              </a:xfrm>
              <a:prstGeom prst="rect">
                <a:avLst/>
              </a:prstGeom>
              <a:solidFill>
                <a:srgbClr val="ff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4094280" y="2657160"/>
                <a:ext cx="277560" cy="3006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504240" y="1585800"/>
                <a:ext cx="144000" cy="216720"/>
              </a:xfrm>
              <a:prstGeom prst="rect">
                <a:avLst/>
              </a:prstGeom>
              <a:solidFill>
                <a:srgbClr val="ff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504240" y="1646280"/>
                <a:ext cx="144000" cy="80640"/>
              </a:xfrm>
              <a:prstGeom prst="rect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840" bIns="33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3463560" y="1798200"/>
                <a:ext cx="39960" cy="60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648240" y="1802520"/>
                <a:ext cx="39600" cy="60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35920" y="1803960"/>
                <a:ext cx="74520" cy="345240"/>
              </a:xfrm>
              <a:prstGeom prst="rect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30" name=""/>
              <p:cNvCxnSpPr>
                <a:stCxn id="129" idx="0"/>
              </p:cNvCxnSpPr>
              <p:nvPr/>
            </p:nvCxnSpPr>
            <p:spPr>
              <a:xfrm>
                <a:off x="3573000" y="1803600"/>
                <a:ext cx="1800" cy="510840"/>
              </a:xfrm>
              <a:prstGeom prst="straightConnector1">
                <a:avLst/>
              </a:prstGeom>
              <a:ln w="15840">
                <a:solidFill>
                  <a:srgbClr val="000000"/>
                </a:solidFill>
                <a:miter/>
              </a:ln>
            </p:spPr>
          </p:cxnSp>
        </p:grpSp>
        <p:grpSp>
          <p:nvGrpSpPr>
            <p:cNvPr id="131" name=""/>
            <p:cNvGrpSpPr/>
            <p:nvPr/>
          </p:nvGrpSpPr>
          <p:grpSpPr>
            <a:xfrm>
              <a:off x="2674080" y="1649520"/>
              <a:ext cx="1756080" cy="2058480"/>
              <a:chOff x="2674080" y="1649520"/>
              <a:chExt cx="1756080" cy="2058480"/>
            </a:xfrm>
          </p:grpSpPr>
          <p:sp>
            <p:nvSpPr>
              <p:cNvPr id="132" name=""/>
              <p:cNvSpPr/>
              <p:nvPr/>
            </p:nvSpPr>
            <p:spPr>
              <a:xfrm>
                <a:off x="2674080" y="2214720"/>
                <a:ext cx="1754640" cy="1493280"/>
              </a:xfrm>
              <a:prstGeom prst="rect">
                <a:avLst/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52600" y="2720520"/>
                <a:ext cx="277560" cy="3009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3562920" y="1649520"/>
                <a:ext cx="144000" cy="216720"/>
              </a:xfrm>
              <a:prstGeom prst="rect">
                <a:avLst/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3562920" y="1710000"/>
                <a:ext cx="144000" cy="80640"/>
              </a:xfrm>
              <a:prstGeom prst="rect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840" bIns="33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flipH="1">
                <a:off x="3522960" y="1861920"/>
                <a:ext cx="39600" cy="60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706920" y="1866240"/>
                <a:ext cx="39600" cy="60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3594960" y="1867680"/>
                <a:ext cx="74520" cy="345600"/>
              </a:xfrm>
              <a:prstGeom prst="rect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39" name=""/>
              <p:cNvCxnSpPr>
                <a:stCxn id="138" idx="0"/>
              </p:cNvCxnSpPr>
              <p:nvPr/>
            </p:nvCxnSpPr>
            <p:spPr>
              <a:xfrm>
                <a:off x="3632040" y="1867320"/>
                <a:ext cx="1800" cy="510840"/>
              </a:xfrm>
              <a:prstGeom prst="straightConnector1">
                <a:avLst/>
              </a:prstGeom>
              <a:ln w="15840">
                <a:solidFill>
                  <a:srgbClr val="000000"/>
                </a:solidFill>
                <a:miter/>
              </a:ln>
            </p:spPr>
          </p:cxnSp>
        </p:grpSp>
        <p:grpSp>
          <p:nvGrpSpPr>
            <p:cNvPr id="140" name=""/>
            <p:cNvGrpSpPr/>
            <p:nvPr/>
          </p:nvGrpSpPr>
          <p:grpSpPr>
            <a:xfrm>
              <a:off x="2732760" y="1707120"/>
              <a:ext cx="1812960" cy="2058840"/>
              <a:chOff x="2732760" y="1707120"/>
              <a:chExt cx="1812960" cy="2058840"/>
            </a:xfrm>
          </p:grpSpPr>
          <p:sp>
            <p:nvSpPr>
              <p:cNvPr id="141" name=""/>
              <p:cNvSpPr/>
              <p:nvPr/>
            </p:nvSpPr>
            <p:spPr>
              <a:xfrm>
                <a:off x="2732760" y="2272320"/>
                <a:ext cx="1755000" cy="149364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2" name=""/>
              <p:cNvGrpSpPr/>
              <p:nvPr/>
            </p:nvGrpSpPr>
            <p:grpSpPr>
              <a:xfrm>
                <a:off x="4211280" y="2732040"/>
                <a:ext cx="334440" cy="300600"/>
                <a:chOff x="4211280" y="2732040"/>
                <a:chExt cx="334440" cy="300600"/>
              </a:xfrm>
            </p:grpSpPr>
            <p:sp>
              <p:nvSpPr>
                <p:cNvPr id="143" name=""/>
                <p:cNvSpPr/>
                <p:nvPr/>
              </p:nvSpPr>
              <p:spPr>
                <a:xfrm flipH="1" rot="5400000">
                  <a:off x="4474800" y="2849040"/>
                  <a:ext cx="82080" cy="58680"/>
                </a:xfrm>
                <a:custGeom>
                  <a:avLst/>
                  <a:gdLst>
                    <a:gd name="textAreaLeft" fmla="*/ 18000 w 82080"/>
                    <a:gd name="textAreaRight" fmla="*/ 64080 w 82080"/>
                    <a:gd name="textAreaTop" fmla="*/ 12960 h 58680"/>
                    <a:gd name="textAreaBottom" fmla="*/ 45720 h 58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0" y="21600"/>
                      </a:lnTo>
                      <a:lnTo>
                        <a:pt x="5400" y="216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040" bIns="-14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4211280" y="2732040"/>
                  <a:ext cx="277200" cy="3006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5" name=""/>
              <p:cNvSpPr/>
              <p:nvPr/>
            </p:nvSpPr>
            <p:spPr>
              <a:xfrm flipH="1" rot="5400000">
                <a:off x="4469400" y="2907000"/>
                <a:ext cx="82440" cy="58680"/>
              </a:xfrm>
              <a:custGeom>
                <a:avLst/>
                <a:gdLst>
                  <a:gd name="textAreaLeft" fmla="*/ 18000 w 82440"/>
                  <a:gd name="textAreaRight" fmla="*/ 64440 w 82440"/>
                  <a:gd name="textAreaTop" fmla="*/ 12960 h 58680"/>
                  <a:gd name="textAreaBottom" fmla="*/ 45720 h 586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040" bIns="-14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4211280" y="2778480"/>
                <a:ext cx="277200" cy="3006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3621600" y="1707120"/>
                <a:ext cx="144000" cy="21672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3621600" y="1767600"/>
                <a:ext cx="144000" cy="81000"/>
              </a:xfrm>
              <a:prstGeom prst="rect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 flipH="1">
                <a:off x="3580920" y="1919520"/>
                <a:ext cx="39960" cy="60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3765600" y="1923840"/>
                <a:ext cx="39600" cy="60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3653280" y="1924920"/>
                <a:ext cx="74520" cy="345600"/>
              </a:xfrm>
              <a:prstGeom prst="rect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52" name=""/>
              <p:cNvCxnSpPr>
                <a:stCxn id="151" idx="0"/>
              </p:cNvCxnSpPr>
              <p:nvPr/>
            </p:nvCxnSpPr>
            <p:spPr>
              <a:xfrm>
                <a:off x="3690360" y="1924920"/>
                <a:ext cx="1800" cy="511200"/>
              </a:xfrm>
              <a:prstGeom prst="straightConnector1">
                <a:avLst/>
              </a:prstGeom>
              <a:ln w="15840">
                <a:solidFill>
                  <a:srgbClr val="000000"/>
                </a:solidFill>
                <a:miter/>
              </a:ln>
            </p:spPr>
          </p:cxnSp>
        </p:grpSp>
        <p:grpSp>
          <p:nvGrpSpPr>
            <p:cNvPr id="153" name=""/>
            <p:cNvGrpSpPr/>
            <p:nvPr/>
          </p:nvGrpSpPr>
          <p:grpSpPr>
            <a:xfrm>
              <a:off x="2791440" y="1770840"/>
              <a:ext cx="1812960" cy="2058840"/>
              <a:chOff x="2791440" y="1770840"/>
              <a:chExt cx="1812960" cy="2058840"/>
            </a:xfrm>
          </p:grpSpPr>
          <p:sp>
            <p:nvSpPr>
              <p:cNvPr id="154" name=""/>
              <p:cNvSpPr/>
              <p:nvPr/>
            </p:nvSpPr>
            <p:spPr>
              <a:xfrm>
                <a:off x="2791440" y="2336040"/>
                <a:ext cx="1755000" cy="149364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5" name=""/>
              <p:cNvGrpSpPr/>
              <p:nvPr/>
            </p:nvGrpSpPr>
            <p:grpSpPr>
              <a:xfrm>
                <a:off x="4269960" y="2796120"/>
                <a:ext cx="334440" cy="300600"/>
                <a:chOff x="4269960" y="2796120"/>
                <a:chExt cx="334440" cy="300600"/>
              </a:xfrm>
            </p:grpSpPr>
            <p:sp>
              <p:nvSpPr>
                <p:cNvPr id="156" name=""/>
                <p:cNvSpPr/>
                <p:nvPr/>
              </p:nvSpPr>
              <p:spPr>
                <a:xfrm flipH="1" rot="5400000">
                  <a:off x="4533480" y="2913120"/>
                  <a:ext cx="82080" cy="58680"/>
                </a:xfrm>
                <a:custGeom>
                  <a:avLst/>
                  <a:gdLst>
                    <a:gd name="textAreaLeft" fmla="*/ 18000 w 82080"/>
                    <a:gd name="textAreaRight" fmla="*/ 64080 w 82080"/>
                    <a:gd name="textAreaTop" fmla="*/ 12960 h 58680"/>
                    <a:gd name="textAreaBottom" fmla="*/ 45720 h 58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0" y="21600"/>
                      </a:lnTo>
                      <a:lnTo>
                        <a:pt x="5400" y="216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040" bIns="-14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4269960" y="2796120"/>
                  <a:ext cx="277200" cy="3006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8" name=""/>
              <p:cNvSpPr/>
              <p:nvPr/>
            </p:nvSpPr>
            <p:spPr>
              <a:xfrm>
                <a:off x="2847600" y="2517120"/>
                <a:ext cx="365400" cy="2109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FGM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3452040" y="3187800"/>
                <a:ext cx="597960" cy="4798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IDPU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2847600" y="2752560"/>
                <a:ext cx="365400" cy="2109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CM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2847600" y="2984040"/>
                <a:ext cx="365400" cy="2109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EFI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2847600" y="3215520"/>
                <a:ext cx="365400" cy="210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ES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2847600" y="3452400"/>
                <a:ext cx="365400" cy="2109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S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64" name=""/>
              <p:cNvCxnSpPr>
                <a:stCxn id="158" idx="3"/>
                <a:endCxn id="159" idx="1"/>
              </p:cNvCxnSpPr>
              <p:nvPr/>
            </p:nvCxnSpPr>
            <p:spPr>
              <a:xfrm>
                <a:off x="3212640" y="2622240"/>
                <a:ext cx="239400" cy="806040"/>
              </a:xfrm>
              <a:prstGeom prst="bentConnector3">
                <a:avLst>
                  <a:gd name="adj1" fmla="val 49698"/>
                </a:avLst>
              </a:prstGeom>
              <a:ln w="15840">
                <a:solidFill>
                  <a:srgbClr val="000000"/>
                </a:solidFill>
                <a:miter/>
              </a:ln>
            </p:spPr>
          </p:cxnSp>
          <p:cxnSp>
            <p:nvCxnSpPr>
              <p:cNvPr id="165" name=""/>
              <p:cNvCxnSpPr>
                <a:stCxn id="160" idx="3"/>
                <a:endCxn id="159" idx="1"/>
              </p:cNvCxnSpPr>
              <p:nvPr/>
            </p:nvCxnSpPr>
            <p:spPr>
              <a:xfrm>
                <a:off x="3212640" y="2857680"/>
                <a:ext cx="239400" cy="570600"/>
              </a:xfrm>
              <a:prstGeom prst="bentConnector3">
                <a:avLst>
                  <a:gd name="adj1" fmla="val 49698"/>
                </a:avLst>
              </a:prstGeom>
              <a:ln w="15840">
                <a:solidFill>
                  <a:srgbClr val="000000"/>
                </a:solidFill>
                <a:miter/>
              </a:ln>
            </p:spPr>
          </p:cxnSp>
          <p:cxnSp>
            <p:nvCxnSpPr>
              <p:cNvPr id="166" name=""/>
              <p:cNvCxnSpPr>
                <a:stCxn id="162" idx="3"/>
                <a:endCxn id="159" idx="1"/>
              </p:cNvCxnSpPr>
              <p:nvPr/>
            </p:nvCxnSpPr>
            <p:spPr>
              <a:xfrm>
                <a:off x="3212640" y="3321000"/>
                <a:ext cx="239400" cy="107280"/>
              </a:xfrm>
              <a:prstGeom prst="bentConnector3">
                <a:avLst>
                  <a:gd name="adj1" fmla="val 49698"/>
                </a:avLst>
              </a:prstGeom>
              <a:ln w="15840">
                <a:solidFill>
                  <a:srgbClr val="000000"/>
                </a:solidFill>
                <a:miter/>
              </a:ln>
            </p:spPr>
          </p:cxnSp>
          <p:cxnSp>
            <p:nvCxnSpPr>
              <p:cNvPr id="167" name=""/>
              <p:cNvCxnSpPr>
                <a:stCxn id="161" idx="3"/>
                <a:endCxn id="159" idx="1"/>
              </p:cNvCxnSpPr>
              <p:nvPr/>
            </p:nvCxnSpPr>
            <p:spPr>
              <a:xfrm>
                <a:off x="3212640" y="3089160"/>
                <a:ext cx="239400" cy="338760"/>
              </a:xfrm>
              <a:prstGeom prst="bentConnector3">
                <a:avLst>
                  <a:gd name="adj1" fmla="val 49698"/>
                </a:avLst>
              </a:prstGeom>
              <a:ln w="15840">
                <a:solidFill>
                  <a:srgbClr val="000000"/>
                </a:solidFill>
                <a:miter/>
              </a:ln>
            </p:spPr>
          </p:cxnSp>
          <p:cxnSp>
            <p:nvCxnSpPr>
              <p:cNvPr id="168" name=""/>
              <p:cNvCxnSpPr>
                <a:stCxn id="163" idx="3"/>
                <a:endCxn id="159" idx="1"/>
              </p:cNvCxnSpPr>
              <p:nvPr/>
            </p:nvCxnSpPr>
            <p:spPr>
              <a:xfrm flipV="1">
                <a:off x="3212640" y="3427200"/>
                <a:ext cx="239400" cy="130680"/>
              </a:xfrm>
              <a:prstGeom prst="bentConnector3">
                <a:avLst>
                  <a:gd name="adj1" fmla="val 49698"/>
                </a:avLst>
              </a:prstGeom>
              <a:ln w="15840">
                <a:solidFill>
                  <a:srgbClr val="000000"/>
                </a:solidFill>
                <a:miter/>
              </a:ln>
            </p:spPr>
          </p:cxnSp>
          <p:sp>
            <p:nvSpPr>
              <p:cNvPr id="169" name=""/>
              <p:cNvSpPr/>
              <p:nvPr/>
            </p:nvSpPr>
            <p:spPr>
              <a:xfrm>
                <a:off x="3452040" y="2499480"/>
                <a:ext cx="597960" cy="4798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BAU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70" name=""/>
              <p:cNvCxnSpPr>
                <a:stCxn id="159" idx="0"/>
                <a:endCxn id="169" idx="2"/>
              </p:cNvCxnSpPr>
              <p:nvPr/>
            </p:nvCxnSpPr>
            <p:spPr>
              <a:xfrm flipV="1">
                <a:off x="3750480" y="2979360"/>
                <a:ext cx="1080" cy="208800"/>
              </a:xfrm>
              <a:prstGeom prst="straightConnector1">
                <a:avLst/>
              </a:prstGeom>
              <a:ln w="15840">
                <a:solidFill>
                  <a:srgbClr val="000000"/>
                </a:solidFill>
                <a:miter/>
              </a:ln>
            </p:spPr>
          </p:cxnSp>
          <p:sp>
            <p:nvSpPr>
              <p:cNvPr id="171" name=""/>
              <p:cNvSpPr/>
              <p:nvPr/>
            </p:nvSpPr>
            <p:spPr>
              <a:xfrm flipH="1" rot="5400000">
                <a:off x="4528440" y="2970720"/>
                <a:ext cx="82080" cy="58680"/>
              </a:xfrm>
              <a:custGeom>
                <a:avLst/>
                <a:gdLst>
                  <a:gd name="textAreaLeft" fmla="*/ 18000 w 82080"/>
                  <a:gd name="textAreaRight" fmla="*/ 64080 w 82080"/>
                  <a:gd name="textAreaTop" fmla="*/ 12960 h 58680"/>
                  <a:gd name="textAreaBottom" fmla="*/ 45720 h 586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040" bIns="-14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72" name=""/>
              <p:cNvCxnSpPr>
                <a:stCxn id="169" idx="3"/>
                <a:endCxn id="173" idx="2"/>
              </p:cNvCxnSpPr>
              <p:nvPr/>
            </p:nvCxnSpPr>
            <p:spPr>
              <a:xfrm>
                <a:off x="4049640" y="2739240"/>
                <a:ext cx="220680" cy="253440"/>
              </a:xfrm>
              <a:prstGeom prst="bentConnector3">
                <a:avLst>
                  <a:gd name="adj1" fmla="val 49673"/>
                </a:avLst>
              </a:prstGeom>
              <a:ln w="15840">
                <a:solidFill>
                  <a:srgbClr val="000000"/>
                </a:solidFill>
                <a:miter/>
              </a:ln>
            </p:spPr>
          </p:cxnSp>
          <p:cxnSp>
            <p:nvCxnSpPr>
              <p:cNvPr id="174" name=""/>
              <p:cNvCxnSpPr>
                <a:stCxn id="169" idx="3"/>
                <a:endCxn id="157" idx="2"/>
              </p:cNvCxnSpPr>
              <p:nvPr/>
            </p:nvCxnSpPr>
            <p:spPr>
              <a:xfrm>
                <a:off x="4049640" y="2739240"/>
                <a:ext cx="220680" cy="207000"/>
              </a:xfrm>
              <a:prstGeom prst="bentConnector3">
                <a:avLst>
                  <a:gd name="adj1" fmla="val 49673"/>
                </a:avLst>
              </a:prstGeom>
              <a:ln w="15840">
                <a:solidFill>
                  <a:srgbClr val="000000"/>
                </a:solidFill>
                <a:miter/>
              </a:ln>
            </p:spPr>
          </p:cxnSp>
          <p:sp>
            <p:nvSpPr>
              <p:cNvPr id="173" name=""/>
              <p:cNvSpPr/>
              <p:nvPr/>
            </p:nvSpPr>
            <p:spPr>
              <a:xfrm>
                <a:off x="4269960" y="2842200"/>
                <a:ext cx="277560" cy="3006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3680280" y="1770840"/>
                <a:ext cx="144360" cy="21672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3680280" y="1831680"/>
                <a:ext cx="144360" cy="80640"/>
              </a:xfrm>
              <a:prstGeom prst="rect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840" bIns="33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flipH="1">
                <a:off x="3640320" y="1983600"/>
                <a:ext cx="39600" cy="60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3824640" y="1987560"/>
                <a:ext cx="39600" cy="60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712320" y="1989000"/>
                <a:ext cx="74520" cy="345600"/>
              </a:xfrm>
              <a:prstGeom prst="rect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80" name=""/>
              <p:cNvCxnSpPr>
                <a:stCxn id="179" idx="0"/>
                <a:endCxn id="169" idx="0"/>
              </p:cNvCxnSpPr>
              <p:nvPr/>
            </p:nvCxnSpPr>
            <p:spPr>
              <a:xfrm>
                <a:off x="3749400" y="1989000"/>
                <a:ext cx="1800" cy="511200"/>
              </a:xfrm>
              <a:prstGeom prst="straightConnector1">
                <a:avLst/>
              </a:prstGeom>
              <a:ln w="15840">
                <a:solidFill>
                  <a:srgbClr val="000000"/>
                </a:solidFill>
                <a:miter/>
              </a:ln>
            </p:spPr>
          </p:cxnSp>
        </p:grpSp>
        <p:sp>
          <p:nvSpPr>
            <p:cNvPr id="181" name=""/>
            <p:cNvSpPr/>
            <p:nvPr/>
          </p:nvSpPr>
          <p:spPr>
            <a:xfrm>
              <a:off x="3839040" y="1731960"/>
              <a:ext cx="36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3300"/>
                  </a:solidFill>
                  <a:latin typeface="Times New Roman"/>
                </a:rPr>
                <a:t>P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558520" y="3762000"/>
              <a:ext cx="36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00"/>
                  </a:solidFill>
                  <a:latin typeface="Times New Roman"/>
                </a:rPr>
                <a:t>P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408760" y="3669480"/>
              <a:ext cx="36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66ff"/>
                  </a:solidFill>
                  <a:latin typeface="Times New Roman"/>
                </a:rPr>
                <a:t>P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55840" y="3530520"/>
              <a:ext cx="36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33cc"/>
                  </a:solidFill>
                  <a:latin typeface="Times New Roman"/>
                </a:rPr>
                <a:t>P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302200" y="3322440"/>
              <a:ext cx="36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P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242200" y="3924360"/>
            <a:ext cx="1349280" cy="914400"/>
            <a:chOff x="8242200" y="3924360"/>
            <a:chExt cx="1349280" cy="914400"/>
          </a:xfrm>
        </p:grpSpPr>
        <p:sp>
          <p:nvSpPr>
            <p:cNvPr id="187" name=""/>
            <p:cNvSpPr/>
            <p:nvPr/>
          </p:nvSpPr>
          <p:spPr>
            <a:xfrm>
              <a:off x="8242200" y="3924360"/>
              <a:ext cx="1349280" cy="914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271360" y="3959280"/>
              <a:ext cx="1312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ci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nalysi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89" name=""/>
          <p:cNvCxnSpPr>
            <a:stCxn id="101" idx="3"/>
            <a:endCxn id="187" idx="2"/>
          </p:cNvCxnSpPr>
          <p:nvPr/>
        </p:nvCxnSpPr>
        <p:spPr>
          <a:xfrm flipV="1">
            <a:off x="7959240" y="4838400"/>
            <a:ext cx="957960" cy="195840"/>
          </a:xfrm>
          <a:prstGeom prst="bentConnector2">
            <a:avLst/>
          </a:prstGeom>
          <a:ln w="15840">
            <a:solidFill>
              <a:srgbClr val="000000"/>
            </a:solidFill>
            <a:miter/>
            <a:tailEnd len="med" type="stealth" w="sm"/>
          </a:ln>
        </p:spPr>
      </p:cxnSp>
      <p:cxnSp>
        <p:nvCxnSpPr>
          <p:cNvPr id="190" name=""/>
          <p:cNvCxnSpPr>
            <a:stCxn id="191" idx="0"/>
            <a:endCxn id="101" idx="3"/>
          </p:cNvCxnSpPr>
          <p:nvPr/>
        </p:nvCxnSpPr>
        <p:spPr>
          <a:xfrm flipV="1" rot="16200000">
            <a:off x="8364600" y="4627800"/>
            <a:ext cx="145440" cy="956520"/>
          </a:xfrm>
          <a:prstGeom prst="bentConnector2">
            <a:avLst/>
          </a:prstGeom>
          <a:ln w="15840">
            <a:solidFill>
              <a:srgbClr val="000000"/>
            </a:solidFill>
            <a:miter/>
            <a:headEnd len="med" type="stealth" w="sm"/>
          </a:ln>
        </p:spPr>
      </p:cxnSp>
      <p:grpSp>
        <p:nvGrpSpPr>
          <p:cNvPr id="192" name=""/>
          <p:cNvGrpSpPr/>
          <p:nvPr/>
        </p:nvGrpSpPr>
        <p:grpSpPr>
          <a:xfrm>
            <a:off x="5180040" y="5965920"/>
            <a:ext cx="2162160" cy="1001520"/>
            <a:chOff x="5180040" y="5965920"/>
            <a:chExt cx="2162160" cy="1001520"/>
          </a:xfrm>
        </p:grpSpPr>
        <p:sp>
          <p:nvSpPr>
            <p:cNvPr id="193" name=""/>
            <p:cNvSpPr/>
            <p:nvPr/>
          </p:nvSpPr>
          <p:spPr>
            <a:xfrm>
              <a:off x="5180040" y="5965920"/>
              <a:ext cx="2162160" cy="1001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844240" y="5973480"/>
              <a:ext cx="85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B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384160" y="6489360"/>
              <a:ext cx="1774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MAG, AS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96" name=""/>
          <p:cNvCxnSpPr>
            <a:stCxn id="194" idx="0"/>
            <a:endCxn id="101" idx="2"/>
          </p:cNvCxnSpPr>
          <p:nvPr/>
        </p:nvCxnSpPr>
        <p:spPr>
          <a:xfrm flipH="1" flipV="1" rot="5400000">
            <a:off x="6433560" y="5076360"/>
            <a:ext cx="737280" cy="1058040"/>
          </a:xfrm>
          <a:prstGeom prst="bentConnector3">
            <a:avLst>
              <a:gd name="adj1" fmla="val 49975"/>
            </a:avLst>
          </a:prstGeom>
          <a:ln w="15840">
            <a:solidFill>
              <a:srgbClr val="000000"/>
            </a:solidFill>
            <a:miter/>
            <a:headEnd len="med" type="stealth" w="sm"/>
            <a:tailEnd len="med" type="stealth" w="sm"/>
          </a:ln>
        </p:spPr>
      </p:cxnSp>
      <p:sp>
        <p:nvSpPr>
          <p:cNvPr id="197" name=""/>
          <p:cNvSpPr/>
          <p:nvPr/>
        </p:nvSpPr>
        <p:spPr>
          <a:xfrm>
            <a:off x="5160960" y="2336760"/>
            <a:ext cx="1131840" cy="110340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416640" y="2343240"/>
            <a:ext cx="1131840" cy="110340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94" idx="0"/>
            <a:endCxn id="197" idx="2"/>
          </p:cNvCxnSpPr>
          <p:nvPr/>
        </p:nvCxnSpPr>
        <p:spPr>
          <a:xfrm flipV="1" rot="16200000">
            <a:off x="5996160" y="3178800"/>
            <a:ext cx="340200" cy="878760"/>
          </a:xfrm>
          <a:prstGeom prst="bentConnector3">
            <a:avLst>
              <a:gd name="adj1" fmla="val 50953"/>
            </a:avLst>
          </a:prstGeom>
          <a:ln w="15840">
            <a:solidFill>
              <a:srgbClr val="000000"/>
            </a:solidFill>
            <a:miter/>
            <a:headEnd len="med" type="stealth" w="sm"/>
            <a:tailEnd len="med" type="stealth" w="sm"/>
          </a:ln>
        </p:spPr>
      </p:cxnSp>
      <p:cxnSp>
        <p:nvCxnSpPr>
          <p:cNvPr id="200" name=""/>
          <p:cNvCxnSpPr>
            <a:stCxn id="198" idx="2"/>
            <a:endCxn id="94" idx="0"/>
          </p:cNvCxnSpPr>
          <p:nvPr/>
        </p:nvCxnSpPr>
        <p:spPr>
          <a:xfrm rot="5400000">
            <a:off x="6626880" y="3432240"/>
            <a:ext cx="334080" cy="378360"/>
          </a:xfrm>
          <a:prstGeom prst="bentConnector3">
            <a:avLst>
              <a:gd name="adj1" fmla="val 48543"/>
            </a:avLst>
          </a:prstGeom>
          <a:ln w="15840">
            <a:solidFill>
              <a:srgbClr val="000000"/>
            </a:solidFill>
            <a:miter/>
            <a:headEnd len="med" type="stealth" w="sm"/>
            <a:tailEnd len="med" type="stealth" w="sm"/>
          </a:ln>
        </p:spPr>
      </p:cxnSp>
      <p:grpSp>
        <p:nvGrpSpPr>
          <p:cNvPr id="201" name=""/>
          <p:cNvGrpSpPr/>
          <p:nvPr/>
        </p:nvGrpSpPr>
        <p:grpSpPr>
          <a:xfrm>
            <a:off x="7723440" y="1805040"/>
            <a:ext cx="1341360" cy="454680"/>
            <a:chOff x="7723440" y="1805040"/>
            <a:chExt cx="1341360" cy="454680"/>
          </a:xfrm>
        </p:grpSpPr>
        <p:sp>
          <p:nvSpPr>
            <p:cNvPr id="202" name=""/>
            <p:cNvSpPr/>
            <p:nvPr/>
          </p:nvSpPr>
          <p:spPr>
            <a:xfrm>
              <a:off x="7745760" y="1805040"/>
              <a:ext cx="1319040" cy="45108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723440" y="1860840"/>
              <a:ext cx="718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DS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7738920" y="2378160"/>
            <a:ext cx="1333440" cy="440280"/>
            <a:chOff x="7738920" y="2378160"/>
            <a:chExt cx="1333440" cy="440280"/>
          </a:xfrm>
        </p:grpSpPr>
        <p:sp>
          <p:nvSpPr>
            <p:cNvPr id="205" name=""/>
            <p:cNvSpPr/>
            <p:nvPr/>
          </p:nvSpPr>
          <p:spPr>
            <a:xfrm>
              <a:off x="7738920" y="2378160"/>
              <a:ext cx="1333440" cy="43668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790400" y="2419560"/>
              <a:ext cx="1043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DRS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7748640" y="2959200"/>
            <a:ext cx="1333440" cy="440280"/>
            <a:chOff x="7748640" y="2959200"/>
            <a:chExt cx="1333440" cy="440280"/>
          </a:xfrm>
        </p:grpSpPr>
        <p:sp>
          <p:nvSpPr>
            <p:cNvPr id="208" name=""/>
            <p:cNvSpPr/>
            <p:nvPr/>
          </p:nvSpPr>
          <p:spPr>
            <a:xfrm>
              <a:off x="7748640" y="2959200"/>
              <a:ext cx="1333440" cy="43668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799040" y="3000600"/>
              <a:ext cx="1101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NORA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7701120" y="1482840"/>
            <a:ext cx="1422360" cy="195876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871040" y="1463760"/>
            <a:ext cx="103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2" name=""/>
          <p:cNvCxnSpPr>
            <a:stCxn id="94" idx="0"/>
            <a:endCxn id="210" idx="2"/>
          </p:cNvCxnSpPr>
          <p:nvPr/>
        </p:nvCxnSpPr>
        <p:spPr>
          <a:xfrm flipH="1" flipV="1" rot="5400000">
            <a:off x="7339320" y="2715120"/>
            <a:ext cx="339120" cy="1807200"/>
          </a:xfrm>
          <a:prstGeom prst="bentConnector3">
            <a:avLst>
              <a:gd name="adj1" fmla="val 51115"/>
            </a:avLst>
          </a:prstGeom>
          <a:ln w="15840">
            <a:solidFill>
              <a:srgbClr val="000000"/>
            </a:solidFill>
            <a:miter/>
            <a:headEnd len="med" type="stealth" w="sm"/>
            <a:tailEnd len="med" type="stealth" w="sm"/>
          </a:ln>
        </p:spPr>
      </p:cxnSp>
      <p:sp>
        <p:nvSpPr>
          <p:cNvPr id="213" name=""/>
          <p:cNvSpPr/>
          <p:nvPr/>
        </p:nvSpPr>
        <p:spPr>
          <a:xfrm>
            <a:off x="5237280" y="1979640"/>
            <a:ext cx="105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m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290640" y="197316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5396040" y="2389320"/>
            <a:ext cx="709560" cy="78084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6637320" y="2363760"/>
            <a:ext cx="658800" cy="835200"/>
          </a:xfrm>
          <a:prstGeom prst="rect">
            <a:avLst/>
          </a:prstGeom>
          <a:ln w="0">
            <a:noFill/>
          </a:ln>
        </p:spPr>
      </p:pic>
      <p:sp>
        <p:nvSpPr>
          <p:cNvPr id="217" name="computr2"/>
          <p:cNvSpPr/>
          <p:nvPr/>
        </p:nvSpPr>
        <p:spPr>
          <a:xfrm>
            <a:off x="9007560" y="3956040"/>
            <a:ext cx="417600" cy="46044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8116920" y="5178600"/>
            <a:ext cx="1596960" cy="495000"/>
            <a:chOff x="8116920" y="5178600"/>
            <a:chExt cx="1596960" cy="495000"/>
          </a:xfrm>
        </p:grpSpPr>
        <p:sp>
          <p:nvSpPr>
            <p:cNvPr id="219" name=""/>
            <p:cNvSpPr/>
            <p:nvPr/>
          </p:nvSpPr>
          <p:spPr>
            <a:xfrm>
              <a:off x="8130240" y="5186520"/>
              <a:ext cx="1244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NSSD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16920" y="5178600"/>
              <a:ext cx="1596960" cy="495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cddrive"/>
            <p:cNvSpPr/>
            <p:nvPr/>
          </p:nvSpPr>
          <p:spPr>
            <a:xfrm>
              <a:off x="9286920" y="5295960"/>
              <a:ext cx="314280" cy="25236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1" name=""/>
          <p:cNvSpPr/>
          <p:nvPr/>
        </p:nvSpPr>
        <p:spPr>
          <a:xfrm rot="1032000">
            <a:off x="4179600" y="1883880"/>
            <a:ext cx="1117440" cy="225720"/>
          </a:xfrm>
          <a:custGeom>
            <a:avLst/>
            <a:gdLst/>
            <a:ahLst/>
            <a:rect l="l" t="t" r="r" b="b"/>
            <a:pathLst>
              <a:path w="2158" h="790">
                <a:moveTo>
                  <a:pt x="0" y="393"/>
                </a:moveTo>
                <a:cubicBezTo>
                  <a:pt x="13" y="396"/>
                  <a:pt x="26" y="399"/>
                  <a:pt x="73" y="402"/>
                </a:cubicBezTo>
                <a:cubicBezTo>
                  <a:pt x="120" y="405"/>
                  <a:pt x="219" y="356"/>
                  <a:pt x="283" y="411"/>
                </a:cubicBezTo>
                <a:cubicBezTo>
                  <a:pt x="347" y="466"/>
                  <a:pt x="396" y="790"/>
                  <a:pt x="457" y="731"/>
                </a:cubicBezTo>
                <a:cubicBezTo>
                  <a:pt x="518" y="672"/>
                  <a:pt x="579" y="56"/>
                  <a:pt x="649" y="55"/>
                </a:cubicBezTo>
                <a:cubicBezTo>
                  <a:pt x="719" y="54"/>
                  <a:pt x="813" y="723"/>
                  <a:pt x="878" y="722"/>
                </a:cubicBezTo>
                <a:cubicBezTo>
                  <a:pt x="943" y="721"/>
                  <a:pt x="980" y="47"/>
                  <a:pt x="1042" y="46"/>
                </a:cubicBezTo>
                <a:cubicBezTo>
                  <a:pt x="1104" y="45"/>
                  <a:pt x="1192" y="713"/>
                  <a:pt x="1253" y="713"/>
                </a:cubicBezTo>
                <a:cubicBezTo>
                  <a:pt x="1314" y="713"/>
                  <a:pt x="1349" y="46"/>
                  <a:pt x="1408" y="46"/>
                </a:cubicBezTo>
                <a:cubicBezTo>
                  <a:pt x="1467" y="46"/>
                  <a:pt x="1553" y="712"/>
                  <a:pt x="1609" y="713"/>
                </a:cubicBezTo>
                <a:cubicBezTo>
                  <a:pt x="1665" y="714"/>
                  <a:pt x="1697" y="110"/>
                  <a:pt x="1746" y="55"/>
                </a:cubicBezTo>
                <a:cubicBezTo>
                  <a:pt x="1795" y="0"/>
                  <a:pt x="1833" y="325"/>
                  <a:pt x="1902" y="384"/>
                </a:cubicBezTo>
                <a:cubicBezTo>
                  <a:pt x="1971" y="443"/>
                  <a:pt x="2064" y="427"/>
                  <a:pt x="2158" y="411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1914840" y="6294600"/>
            <a:ext cx="2057040" cy="735480"/>
            <a:chOff x="1914840" y="6294600"/>
            <a:chExt cx="2057040" cy="735480"/>
          </a:xfrm>
        </p:grpSpPr>
        <p:pic>
          <p:nvPicPr>
            <p:cNvPr id="223" name="" descr=""/>
            <p:cNvPicPr/>
            <p:nvPr/>
          </p:nvPicPr>
          <p:blipFill>
            <a:blip r:embed="rId5"/>
            <a:stretch/>
          </p:blipFill>
          <p:spPr>
            <a:xfrm>
              <a:off x="2822760" y="6391440"/>
              <a:ext cx="1149120" cy="58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4" name=""/>
            <p:cNvSpPr/>
            <p:nvPr/>
          </p:nvSpPr>
          <p:spPr>
            <a:xfrm>
              <a:off x="1951200" y="6294600"/>
              <a:ext cx="2017440" cy="71424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914840" y="6326280"/>
              <a:ext cx="1070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 u="sng">
                  <a:solidFill>
                    <a:srgbClr val="000000"/>
                  </a:solidFill>
                  <a:uFillTx/>
                  <a:latin typeface="Arial"/>
                </a:rPr>
                <a:t>Inst-I&amp;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UC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26" name=""/>
          <p:cNvCxnSpPr>
            <a:stCxn id="224" idx="0"/>
            <a:endCxn id="227" idx="2"/>
          </p:cNvCxnSpPr>
          <p:nvPr/>
        </p:nvCxnSpPr>
        <p:spPr>
          <a:xfrm flipH="1" flipV="1">
            <a:off x="2955240" y="5919120"/>
            <a:ext cx="5400" cy="3675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headEnd len="med" type="stealth" w="sm"/>
            <a:tailEnd len="med" type="stealth" w="sm"/>
          </a:ln>
        </p:spPr>
      </p:cxnSp>
      <p:cxnSp>
        <p:nvCxnSpPr>
          <p:cNvPr id="228" name=""/>
          <p:cNvCxnSpPr>
            <a:stCxn id="227" idx="3"/>
            <a:endCxn id="94" idx="1"/>
          </p:cNvCxnSpPr>
          <p:nvPr/>
        </p:nvCxnSpPr>
        <p:spPr>
          <a:xfrm flipV="1">
            <a:off x="4356000" y="4542840"/>
            <a:ext cx="799200" cy="975240"/>
          </a:xfrm>
          <a:prstGeom prst="bentConnector3">
            <a:avLst>
              <a:gd name="adj1" fmla="val 49481"/>
            </a:avLst>
          </a:prstGeom>
          <a:ln w="15840">
            <a:solidFill>
              <a:srgbClr val="000000"/>
            </a:solidFill>
            <a:miter/>
            <a:headEnd len="med" type="stealth" w="sm"/>
            <a:tailEnd len="med" type="stealth" w="sm"/>
          </a:ln>
        </p:spPr>
      </p:cxnSp>
      <p:grpSp>
        <p:nvGrpSpPr>
          <p:cNvPr id="229" name=""/>
          <p:cNvGrpSpPr/>
          <p:nvPr/>
        </p:nvGrpSpPr>
        <p:grpSpPr>
          <a:xfrm>
            <a:off x="1562040" y="5124600"/>
            <a:ext cx="2786040" cy="787320"/>
            <a:chOff x="1562040" y="5124600"/>
            <a:chExt cx="2786040" cy="787320"/>
          </a:xfrm>
        </p:grpSpPr>
        <p:pic>
          <p:nvPicPr>
            <p:cNvPr id="230" name="probestowed_RevB" descr=""/>
            <p:cNvPicPr/>
            <p:nvPr/>
          </p:nvPicPr>
          <p:blipFill>
            <a:blip r:embed="rId6"/>
            <a:stretch/>
          </p:blipFill>
          <p:spPr>
            <a:xfrm>
              <a:off x="3619440" y="5138640"/>
              <a:ext cx="682560" cy="77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"/>
            <p:cNvSpPr/>
            <p:nvPr/>
          </p:nvSpPr>
          <p:spPr>
            <a:xfrm>
              <a:off x="1562040" y="5124600"/>
              <a:ext cx="2786040" cy="78732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412000" y="5176800"/>
              <a:ext cx="11271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 u="sng">
                  <a:solidFill>
                    <a:srgbClr val="000000"/>
                  </a:solidFill>
                  <a:uFillTx/>
                  <a:latin typeface="Arial"/>
                </a:rPr>
                <a:t>Msn I&amp;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Swal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32" name="item-9" descr=""/>
            <p:cNvPicPr/>
            <p:nvPr/>
          </p:nvPicPr>
          <p:blipFill>
            <a:blip r:embed="rId7">
              <a:lum bright="18000"/>
            </a:blip>
            <a:srcRect l="3732" t="5018" r="6688" b="4652"/>
            <a:stretch/>
          </p:blipFill>
          <p:spPr>
            <a:xfrm>
              <a:off x="1619280" y="5189400"/>
              <a:ext cx="890640" cy="668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33" name=""/>
          <p:cNvGrpSpPr/>
          <p:nvPr/>
        </p:nvGrpSpPr>
        <p:grpSpPr>
          <a:xfrm>
            <a:off x="809640" y="1784520"/>
            <a:ext cx="1452600" cy="2887560"/>
            <a:chOff x="809640" y="1784520"/>
            <a:chExt cx="1452600" cy="2887560"/>
          </a:xfrm>
        </p:grpSpPr>
        <p:pic>
          <p:nvPicPr>
            <p:cNvPr id="234" name="d2_is-1_2002-02-11a" descr=""/>
            <p:cNvPicPr/>
            <p:nvPr/>
          </p:nvPicPr>
          <p:blipFill>
            <a:blip r:embed="rId8"/>
            <a:stretch/>
          </p:blipFill>
          <p:spPr>
            <a:xfrm>
              <a:off x="879840" y="2543400"/>
              <a:ext cx="1320480" cy="207648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235" name=""/>
            <p:cNvSpPr/>
            <p:nvPr/>
          </p:nvSpPr>
          <p:spPr>
            <a:xfrm>
              <a:off x="809640" y="1784520"/>
              <a:ext cx="1452600" cy="288756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877680" y="1795680"/>
              <a:ext cx="1301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D2925-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@ CCA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 rot="16200000">
            <a:off x="797400" y="4816800"/>
            <a:ext cx="1117800" cy="420480"/>
          </a:xfrm>
          <a:custGeom>
            <a:avLst/>
            <a:gdLst>
              <a:gd name="textAreaLeft" fmla="*/ 0 w 1117800"/>
              <a:gd name="textAreaRight" fmla="*/ 1117800 w 1117800"/>
              <a:gd name="textAreaTop" fmla="*/ 0 h 420480"/>
              <a:gd name="textAreaBottom" fmla="*/ 420840 h 420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7759" stAng="10800000" swAng="5400000"/>
                <a:lnTo>
                  <a:pt x="14547" y="4401"/>
                </a:lnTo>
                <a:lnTo>
                  <a:pt x="14547" y="0"/>
                </a:lnTo>
                <a:lnTo>
                  <a:pt x="21600" y="6079"/>
                </a:lnTo>
                <a:lnTo>
                  <a:pt x="14547" y="12158"/>
                </a:lnTo>
                <a:lnTo>
                  <a:pt x="14547" y="7757"/>
                </a:lnTo>
                <a:lnTo>
                  <a:pt x="12427" y="7757"/>
                </a:lnTo>
                <a:arcTo wR="9071" hR="4403" stAng="16200000" swAng="-5400000"/>
                <a:lnTo>
                  <a:pt x="3356" y="21600"/>
                </a:lnTo>
                <a:close/>
              </a:path>
            </a:pathLst>
          </a:cu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rot="4138800">
            <a:off x="81360" y="5163480"/>
            <a:ext cx="1780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capsu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amp; laun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5321880" y="500040"/>
            <a:ext cx="336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ssion profile is robu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0" name="item-8" descr=""/>
          <p:cNvPicPr/>
          <p:nvPr/>
        </p:nvPicPr>
        <p:blipFill>
          <a:blip r:embed="rId1"/>
          <a:stretch/>
        </p:blipFill>
        <p:spPr>
          <a:xfrm>
            <a:off x="2473200" y="4371840"/>
            <a:ext cx="2019600" cy="2810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1" name=""/>
          <p:cNvGraphicFramePr/>
          <p:nvPr/>
        </p:nvGraphicFramePr>
        <p:xfrm>
          <a:off x="595440" y="1068480"/>
          <a:ext cx="8869320" cy="6067440"/>
        </p:xfrm>
        <a:graphic>
          <a:graphicData uri="http://schemas.openxmlformats.org/drawingml/2006/table">
            <a:tbl>
              <a:tblPr/>
              <a:tblGrid>
                <a:gridCol w="1400400"/>
                <a:gridCol w="1261800"/>
                <a:gridCol w="1467000"/>
                <a:gridCol w="2090520"/>
                <a:gridCol w="1756080"/>
                <a:gridCol w="893520"/>
              </a:tblGrid>
              <a:tr h="642960">
                <a:tc>
                  <a:txBody>
                    <a:bodyPr lIns="18360" rIns="18360" tIns="18360" bIns="1836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-Laun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6hr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360" marR="183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18360" rIns="18360" tIns="18360" bIns="1836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un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25mi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360" marR="18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360" rIns="18360" tIns="18360" bIns="1836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eck-out &amp; asce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60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360" marR="18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360" rIns="18360" tIns="18360" bIns="1836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cience op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2yr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360" marR="18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360" rIns="18360" tIns="18360" bIns="1836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-ent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360" marR="183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5240">
                <a:tc rowSpan="2">
                  <a:txBody>
                    <a:bodyPr lIns="18360" rIns="18360" tIns="18360" bIns="1836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eckou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untdow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360" marR="183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18360" rIns="18360" tIns="18360" bIns="1836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nd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stage bur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pin-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rd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stage bur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pin-dow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360" marR="18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18360" rIns="18360" tIns="18360" bIns="1836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be dispen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360" marR="18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18360" rIns="18360" tIns="18360" bIns="1836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us check-ou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ply mags/check instr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rbit place. Total of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6 side thrusting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6 reor/fire/reor sequenc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loy EF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360" marR="18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360" rIns="18360" tIns="18360" bIns="1836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nor ctrl ops (all)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Times New Roman"/>
                        <a:buChar char="–"/>
                        <a:tabLst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 side-thrusting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Times New Roman"/>
                        <a:buChar char="–"/>
                        <a:tabLst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inclination chang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360" marR="18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18360" rIns="18360" tIns="18360" bIns="18360" anchor="t" vert="eaVert">
                      <a:noAutofit/>
                    </a:bodyPr>
                    <a:p>
                      <a:pPr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nor ctrl ops (Side-thrusts, finish by EOM+9mo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8 side-thrusting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ssive re-entry thereafter (1-10yr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360" marR="183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3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18360" rIns="18360" tIns="18360" bIns="1836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360" marR="18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77240">
                <a:tc rowSpan="2">
                  <a:txBody>
                    <a:bodyPr lIns="18360" rIns="18360" tIns="18360" bIns="1836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360" marR="183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 rowSpan="2">
                  <a:txBody>
                    <a:bodyPr lIns="18360" rIns="18360" tIns="18360" bIns="1836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360" marR="18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58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8360" rIns="18360" tIns="18360" bIns="1836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el consumption, maneuvers and contacts during ascend: validated with GMAN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360" marR="18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242" name="item-2" descr=""/>
          <p:cNvPicPr/>
          <p:nvPr/>
        </p:nvPicPr>
        <p:blipFill>
          <a:blip r:embed="rId2"/>
          <a:srcRect l="22529" t="2873" r="21154" b="3271"/>
          <a:stretch/>
        </p:blipFill>
        <p:spPr>
          <a:xfrm>
            <a:off x="633240" y="3146400"/>
            <a:ext cx="1341720" cy="3753000"/>
          </a:xfrm>
          <a:prstGeom prst="rect">
            <a:avLst/>
          </a:prstGeom>
          <a:ln w="0">
            <a:noFill/>
          </a:ln>
        </p:spPr>
      </p:pic>
      <p:pic>
        <p:nvPicPr>
          <p:cNvPr id="243" name="probestowed_RevB" descr=""/>
          <p:cNvPicPr/>
          <p:nvPr/>
        </p:nvPicPr>
        <p:blipFill>
          <a:blip r:embed="rId3"/>
          <a:stretch/>
        </p:blipFill>
        <p:spPr>
          <a:xfrm>
            <a:off x="2160720" y="4051440"/>
            <a:ext cx="785520" cy="885600"/>
          </a:xfrm>
          <a:prstGeom prst="rect">
            <a:avLst/>
          </a:prstGeom>
          <a:ln w="0">
            <a:noFill/>
          </a:ln>
        </p:spPr>
      </p:pic>
      <p:pic>
        <p:nvPicPr>
          <p:cNvPr id="244" name="probestowed_RevB" descr=""/>
          <p:cNvPicPr/>
          <p:nvPr/>
        </p:nvPicPr>
        <p:blipFill>
          <a:blip r:embed="rId4"/>
          <a:stretch/>
        </p:blipFill>
        <p:spPr>
          <a:xfrm>
            <a:off x="3894120" y="3957480"/>
            <a:ext cx="817560" cy="920880"/>
          </a:xfrm>
          <a:prstGeom prst="rect">
            <a:avLst/>
          </a:prstGeom>
          <a:ln w="0">
            <a:noFill/>
          </a:ln>
        </p:spPr>
      </p:pic>
      <p:pic>
        <p:nvPicPr>
          <p:cNvPr id="245" name="probestowed_RevB" descr=""/>
          <p:cNvPicPr/>
          <p:nvPr/>
        </p:nvPicPr>
        <p:blipFill>
          <a:blip r:embed="rId5"/>
          <a:stretch/>
        </p:blipFill>
        <p:spPr>
          <a:xfrm>
            <a:off x="2514600" y="3521160"/>
            <a:ext cx="431640" cy="485640"/>
          </a:xfrm>
          <a:prstGeom prst="rect">
            <a:avLst/>
          </a:prstGeom>
          <a:ln w="0">
            <a:noFill/>
          </a:ln>
        </p:spPr>
      </p:pic>
      <p:pic>
        <p:nvPicPr>
          <p:cNvPr id="246" name="probestowed_RevB" descr=""/>
          <p:cNvPicPr/>
          <p:nvPr/>
        </p:nvPicPr>
        <p:blipFill>
          <a:blip r:embed="rId6"/>
          <a:stretch/>
        </p:blipFill>
        <p:spPr>
          <a:xfrm>
            <a:off x="3124080" y="3112920"/>
            <a:ext cx="649440" cy="731880"/>
          </a:xfrm>
          <a:prstGeom prst="rect">
            <a:avLst/>
          </a:prstGeom>
          <a:ln w="0">
            <a:noFill/>
          </a:ln>
        </p:spPr>
      </p:pic>
      <p:pic>
        <p:nvPicPr>
          <p:cNvPr id="247" name="probestowed_RevB" descr=""/>
          <p:cNvPicPr/>
          <p:nvPr/>
        </p:nvPicPr>
        <p:blipFill>
          <a:blip r:embed="rId7"/>
          <a:stretch/>
        </p:blipFill>
        <p:spPr>
          <a:xfrm>
            <a:off x="3813120" y="3514680"/>
            <a:ext cx="432000" cy="486000"/>
          </a:xfrm>
          <a:prstGeom prst="rect">
            <a:avLst/>
          </a:prstGeom>
          <a:ln w="0">
            <a:noFill/>
          </a:ln>
        </p:spPr>
      </p:pic>
      <p:pic>
        <p:nvPicPr>
          <p:cNvPr id="248" name="Trajectory.THEMIS_1_M_2" descr=""/>
          <p:cNvPicPr/>
          <p:nvPr/>
        </p:nvPicPr>
        <p:blipFill>
          <a:blip r:embed="rId8"/>
          <a:stretch/>
        </p:blipFill>
        <p:spPr>
          <a:xfrm>
            <a:off x="4775040" y="4308480"/>
            <a:ext cx="3749760" cy="277668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9"/>
          <a:stretch/>
        </p:blipFill>
        <p:spPr>
          <a:xfrm>
            <a:off x="3330720" y="1979640"/>
            <a:ext cx="1322280" cy="99072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10"/>
          <a:stretch/>
        </p:blipFill>
        <p:spPr>
          <a:xfrm>
            <a:off x="7083360" y="2517840"/>
            <a:ext cx="1177920" cy="123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311040" y="1000080"/>
            <a:ext cx="9431280" cy="58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Question # 1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lease describe the mission profiles for each probe and for scenarios in which one probe replaces another in the constellation.  Include detailed delta-v profiles for each scenario including pertinent orbital parameters.  What is the operational sequence of events for moving an already-operating probe to replace a failed one?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HIGH LEVEL NOMINAL MISSION PROFI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The Probes, during all mission phases, are shown on the Mission Profile Table Poster and in your Appendix handouts (Expansion of CSR Figure F-1A) and demonstrate that THEMIS Mission Modes are well defin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This Profile is understood across all elements of the team enabling the optimization and operational simplicity achieved during the Phase A stud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Detailed Delta-V profiles/orbit parameters for all probe scenarios shown in Appendix hand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DELTA-V PROFILE -- PROBE REPLACEMENT SCENARIO DETAILED MANEUVER AND OPERATIONAL SEQUENC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The detailed Delta-V Table that follows illustrates P3 and P4; This represents the worst case energy/propellant usage scenario (i.e. replacing P1 by either P3 or P4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ssumes all Probes fully deployed at nominal mission orbits before P3 or P4 are “called into duty” to replace P1 (worst case operational assump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Even after full replacement operations are completed, positive fuel margin still exists on the replacement probe (P3 or P4);  These operations include end of mission maneuver to fully satisfy orbital debris require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Operational sequence for Probe Replacement Scenario is identical to operations for other maneuvers (See answer to Question 2 that also addresses this part of Question 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633120" y="495360"/>
            <a:ext cx="499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s. to Q#1a. Mission &amp;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 profi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30T02:13:31Z</dcterms:created>
  <dc:creator>Vassilis Angelopoulos</dc:creator>
  <dc:description/>
  <dc:language>en-US</dc:language>
  <cp:lastModifiedBy>Vassilis Angelopoulos</cp:lastModifiedBy>
  <dcterms:modified xsi:type="dcterms:W3CDTF">2003-01-26T20:51:14Z</dcterms:modified>
  <cp:revision>256</cp:revision>
  <dc:subject/>
  <dc:title>THEMIS  Science Instruments</dc:title>
</cp:coreProperties>
</file>