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58400" cy="77724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7480" y="96696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47280" y="336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8640" y="295200"/>
            <a:ext cx="2849760" cy="66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754200" y="7186680"/>
            <a:ext cx="856764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138560"/>
                <a:tab algn="r" pos="84628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MIS/SITE VISI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21- </a:t>
            </a:r>
            <a:fld id="{08A9DFF9-D624-4937-B49E-D4597510F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CB, 01/28/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7200" y="723420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74320" y="57168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and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prg.ssl.berkeley.edy/themis" TargetMode="External"/><Relationship Id="rId2" Type="http://schemas.openxmlformats.org/officeDocument/2006/relationships/hyperlink" Target="http://sprg.ssl.berkeley.edy/themis" TargetMode="External"/><Relationship Id="rId3" Type="http://schemas.openxmlformats.org/officeDocument/2006/relationships/hyperlink" Target="ftp://apollo.ssl.berkeley.edu/pub/hessi/HESSI%20Documents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88960" y="1023840"/>
            <a:ext cx="9090000" cy="61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 # 18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, risks and benefits of international participation including burdens to NASA/HQ, UCB, Sw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/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quality instruments, low mass and power, produced in high numbers bef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ost deceptive: represents existing designs, many years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along tremendous scientific contribution from leaders in substorm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comple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r than any other space physics program UCB has participated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aspect facilitated by modular production and I&amp;T, simple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de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Q: LOAs a burden. Experienced THEMIS international partners will help with contacts and follow through paperwork (as on Ulysses, Cassini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B: Create TAAs as backup to mitigate risk at I&amp;T if ITAR becomes stric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les: None (badging, escorting etc. common practic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AR becomes more restrictive UCB will apply for TAA (plenty of time for tha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9200" y="1066680"/>
            <a:ext cx="9085320" cy="63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 # 18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ow do you plan to demonstrate that you meet the appropriate EAR and ITAR exclusions for fundamental research and publicly available technical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University of California, Office of the President, has registered with the Department of State, Office of Defense Trade Controls, PM/DTC Registrant Code 0802-1180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has developed the following guidelines for compliance with EAR and ITAR as fundamental research and publicly available da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papers in technical literature (e.g., Constellation Class missions publication, UCB/GSFC pub., 19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top level design, ICDs, Requirements, interfaces on the web (e.g., http://sprg.ssl.berkeley.edu/ConstellationClassMissions</a:t>
            </a:r>
            <a:br>
              <a:rPr sz="20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sprg.ssl.berkeley.edy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he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ftp://apollo.ssl.berkeley.edu/pub/hessi/HESSI%20Documents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les proprietary material (detailed bus design) will not be included  but is not necessary to be discussed with foreign instrument provid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19200" y="1066680"/>
            <a:ext cx="9245520" cy="55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 # 18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omaly resolution during I&amp;T may require a license. What is the impact and how will you mitigate i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pacecraft anomalies do not require license beca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al interface with instruments is through IDPU: UCB deals with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cal interface with instruments is through booms: UCB respo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C (magnetic cleanliness) noise affecting environment dealt by UC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ment anomalies do not require licen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ments interface with IDPU not probe bus sub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urrently presence of foreign nationals at I&amp;T allowed under ITAR 125.4(b)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TAR starts to become more restrictive will apply for TAA (12mo pri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2:13:31Z</dcterms:created>
  <dc:creator>Vassilis Angelopoulos</dc:creator>
  <dc:description/>
  <dc:language>en-US</dc:language>
  <cp:lastModifiedBy>vassilis</cp:lastModifiedBy>
  <dcterms:modified xsi:type="dcterms:W3CDTF">2003-01-23T06:46:50Z</dcterms:modified>
  <cp:revision>196</cp:revision>
  <dc:subject/>
  <dc:title>THEMIS  Science Instruments</dc:title>
</cp:coreProperties>
</file>