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17480" y="96696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747280" y="336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28640" y="295200"/>
            <a:ext cx="2849760" cy="66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" name=""/>
          <p:cNvSpPr/>
          <p:nvPr/>
        </p:nvSpPr>
        <p:spPr>
          <a:xfrm>
            <a:off x="754200" y="7186680"/>
            <a:ext cx="856764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4138560"/>
                <a:tab algn="r" pos="84628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MIS/SITE VISIT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21- </a:t>
            </a:r>
            <a:fld id="{2BBEACC9-54B2-4829-BF33-E41A6CEF7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CB, 01/28/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7200" y="7234200"/>
            <a:ext cx="8637480" cy="0"/>
          </a:xfrm>
          <a:prstGeom prst="line">
            <a:avLst/>
          </a:prstGeom>
          <a:ln w="28440">
            <a:solidFill>
              <a:srgbClr val="0000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74320" y="571680"/>
            <a:ext cx="30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and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1040" y="1000080"/>
            <a:ext cx="943128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estion # 1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lease describe the mission profiles for each probe and for scenarios in which one probe replaces another in the constellation.  Include detailed delta-v profiles for each scenario including pertinent orbital parameters.  What is the operational sequence of events for moving an already-operating probe to replace a failed on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IGH LEVEL NOMINAL MISSION PROFI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obes, during all mission phases, are shown on the Mission Profile Table Poster and in your Appendix handouts (Expansion of CSR Figure F-1A) and demonstrate that THEMIS Mission Modes are well 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is Profile is understood across all elements of the team enabling the optimization and operational simplicity achieved during the Phase A 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tailed Delta-V profiles/orbit parameters for all probe scenarios shown in Appendix hand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TA-V PROFILE -- PROBE REPLACEMENT SCENARIO DETAILED MANEUVER AND OPERATIONAL SEQUEN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tailed Delta-V Table that follows illustrates P3 and P4; This represents the worst case energy/propellant usage scenario (i.e. replacing P1 by either P3 or P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ssumes all Probes fully deployed at nominal mission orbits before P3 or P4 are “called into duty” to replace P1 (worst case operational assump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en after full replacement operations are completed, positive fuel margin still exists on the replacement probe (P3 or P4);  These operations include end of mission maneuver to fully satisfy orbital debris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al sequence for Probe Replacement Scenario is identical to operations for other maneuvers (See answer to Question 2 that also addresses this part of Question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1040" y="1000080"/>
            <a:ext cx="943128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Question # 1, Cont’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table is similar to all of the Probe detailed Delta-V and orbit maneuver profiles;  This replacement scenario envelopes P3 and P1’s core maneuvers as well as demonstrating the sequence of maneuvers for the Probe replacement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45960" y="2411280"/>
          <a:ext cx="9488520" cy="474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411280"/>
                    <a:ext cx="9488520" cy="47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02:13:31Z</dcterms:created>
  <dc:creator>Vassilis Angelopoulos</dc:creator>
  <dc:description/>
  <dc:language>en-US</dc:language>
  <cp:lastModifiedBy>Dan Mark</cp:lastModifiedBy>
  <dcterms:modified xsi:type="dcterms:W3CDTF">2003-01-24T19:12:32Z</dcterms:modified>
  <cp:revision>217</cp:revision>
  <dc:subject/>
  <dc:title>THEMIS  Science Instruments</dc:title>
</cp:coreProperties>
</file>