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7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382680" indent="-382680"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49440" y="295200"/>
            <a:ext cx="8802360" cy="7404840"/>
            <a:chOff x="649440" y="295200"/>
            <a:chExt cx="8802360" cy="7404840"/>
          </a:xfrm>
        </p:grpSpPr>
        <p:grpSp>
          <p:nvGrpSpPr>
            <p:cNvPr id="2" name=""/>
            <p:cNvGrpSpPr/>
            <p:nvPr/>
          </p:nvGrpSpPr>
          <p:grpSpPr>
            <a:xfrm>
              <a:off x="717480" y="295200"/>
              <a:ext cx="8639280" cy="671760"/>
              <a:chOff x="717480" y="295200"/>
              <a:chExt cx="8639280" cy="671760"/>
            </a:xfrm>
          </p:grpSpPr>
          <p:sp>
            <p:nvSpPr>
              <p:cNvPr id="3" name=""/>
              <p:cNvSpPr/>
              <p:nvPr/>
            </p:nvSpPr>
            <p:spPr>
              <a:xfrm>
                <a:off x="717480" y="966960"/>
                <a:ext cx="8637480" cy="0"/>
              </a:xfrm>
              <a:prstGeom prst="line">
                <a:avLst/>
              </a:prstGeom>
              <a:ln w="28440">
                <a:solidFill>
                  <a:srgbClr val="0000b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747280" y="336600"/>
                <a:ext cx="609480" cy="60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8640" y="295200"/>
                <a:ext cx="2849760" cy="660600"/>
              </a:xfrm>
              <a:prstGeom prst="rect">
                <a:avLst/>
              </a:prstGeom>
              <a:ln w="12600">
                <a:solidFill>
                  <a:srgbClr val="000000"/>
                </a:solidFill>
                <a:miter/>
              </a:ln>
            </p:spPr>
          </p:pic>
        </p:grpSp>
        <p:sp>
          <p:nvSpPr>
            <p:cNvPr id="6" name=""/>
            <p:cNvSpPr/>
            <p:nvPr/>
          </p:nvSpPr>
          <p:spPr>
            <a:xfrm>
              <a:off x="649440" y="7186680"/>
              <a:ext cx="8802360" cy="5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1120" bIns="51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ctr" pos="4286160"/>
                  <a:tab algn="r" pos="862956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MIS/SITE VISIT – COMPETITION SENSITIVE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M- </a:t>
              </a:r>
              <a:fld id="{8E3F6354-E840-4107-BD60-2EDA70B56264}" type="slidenum"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UCB, 01/28/200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27200" y="7234200"/>
              <a:ext cx="8637480" cy="0"/>
            </a:xfrm>
            <a:prstGeom prst="line">
              <a:avLst/>
            </a:prstGeom>
            <a:ln w="28440">
              <a:solidFill>
                <a:srgbClr val="0000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22800" y="431280"/>
            <a:ext cx="5364000" cy="6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stion 4b: IDPU FS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9388440" cy="60199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 4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the basis for the IDPU software estimate of 3000 lines of co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Equivalent Functional Modules from Prior FSW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8085 Heritage Then Converted to 80196 Using Calculated Ratio (.5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d 3-4K in C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of 4K used for IV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57600" y="3048120"/>
            <a:ext cx="59436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prh</cp:lastModifiedBy>
  <dcterms:modified xsi:type="dcterms:W3CDTF">2003-01-24T22:42:15Z</dcterms:modified>
  <cp:revision>78</cp:revision>
  <dc:subject/>
  <dc:title>THEMIS  Science Instruments</dc:title>
</cp:coreProperties>
</file>