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CD7-D361-48A5-BBB4-E419E09AF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0232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096-DD39-4764-9F02-FDA9CBCC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023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023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48F-1AF4-46AE-A5BB-AE44636D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294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2949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02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02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0232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CB27-EA4A-4FB2-A9CA-3D8CB54E5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ACC-68C3-47ED-80DF-595998C7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A00-DEE5-4C9A-91B8-C0E576D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E24-56F3-42BC-8FEB-4F2B0417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66CE-2640-49C0-B92A-64034C73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00040" y="380880"/>
            <a:ext cx="48769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7B8-7BB4-4B47-BC66-DE5122B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023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581-0E17-482A-8A47-DB51963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023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889-2A64-44F6-9F98-6A406050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29492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0232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838-D5FE-4082-8836-97217B8F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EB47-1647-40E0-9712-7E1C2F5D4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84940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304920" y="1143000"/>
            <a:ext cx="853416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324480"/>
            <a:ext cx="853416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34356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– COMPETITION SENSITIVE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- </a:t>
            </a:r>
            <a:fld id="{D0189F5C-4AD3-47E9-BAC6-7977036BE5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Appendage Deploy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10 RP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15 max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release Mag Booms (10 to 8.6 RPM momentu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30 RPM to prepare for Wire Boom Deployment, then release door c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 AB pair to 5m radius, then CD pair to 5m (30 to 11 RPM momentu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 AB pair to 10m, then CD pair to 10m (11 to 3.5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26 RPM to unfurl all Sphere Re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loy AB pair to 12m, then CD pair to 12m (26 to 18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24 RPM, deploy AB pair to 14m, then CD pair to 14m (24 to 17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22 RPM, deploy AB pair to 16m, then CD pair to 16m (22 to 17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20 RPM, deploy AB pair to 18m, then CD pair to 18m (20 to 16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in to 20 RPM, deploy AB pair to 20m, then CD pair to 20m (20 to 16 RPM desp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S: All sequences may be interrupted by ‘Safe Hold’ without risk to a prob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PU controlled deploy logic stops longer boom if difference is &gt; 0.1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loyment can be verified by spin changes, spin flutter &amp; nutation frequ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xial booms (as pair or individually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m final operational spin rate to 20 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0004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: Themis Boom Syste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sion design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vassilis</cp:lastModifiedBy>
  <dcterms:modified xsi:type="dcterms:W3CDTF">2003-01-24T15:10:09Z</dcterms:modified>
  <cp:revision>56</cp:revision>
  <dc:subject/>
  <dc:title>THEMIS  Science Instruments</dc:title>
</cp:coreProperties>
</file>