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7480" y="96696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747280" y="336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28640" y="295200"/>
            <a:ext cx="2849760" cy="66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"/>
          <p:cNvSpPr/>
          <p:nvPr/>
        </p:nvSpPr>
        <p:spPr>
          <a:xfrm>
            <a:off x="754200" y="7186680"/>
            <a:ext cx="856764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4138560"/>
                <a:tab algn="r" pos="84628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MIS/SITE VISI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21- </a:t>
            </a:r>
            <a:fld id="{43BDC6B9-7C41-44AB-B0EA-0318A5132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CB, 01/28/2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7200" y="723420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74320" y="57168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 and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85720" y="1173240"/>
            <a:ext cx="9156600" cy="57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 # 6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SFC Spec 311-INST-1A [CSR, Page 100] applies only to instruments, and calls for Grade 3 parts only for non-essential instruments with lifetimes less than one year.  Please explain your decision to use Grade 3 parts (with some up-screens to Grade 2) for key parts in critical subsystems for the entire spacecra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SFC-410-MIDEX-003 Rev A section 5.2 states that “In general all parts should be selected and processed in accordance with GSFC 311-INST-001 for Grade 3 quality level”.  The THEMIS EEE parts program has established as a minimum Grade 3 quality level for both instruments and probe EEE par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tellite probes critical components such as the BAU, Miniature Spinning Sun Sensor and Transponder have established a Grade 2 or better parts progra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inexpensive/short lead parts such as  diodes, resistors, capacitors, small transistors etc. we have specified Grade 1 par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IDPU will institute, in general, a Grade 2 or better parts progra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instruments will institute Grade 3 or better upgrades will be considered if the schedule and cost impacts are within the baseline pro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02:13:31Z</dcterms:created>
  <dc:creator>Vassilis Angelopoulos</dc:creator>
  <dc:description/>
  <dc:language>en-US</dc:language>
  <cp:lastModifiedBy>Mike Cully</cp:lastModifiedBy>
  <dcterms:modified xsi:type="dcterms:W3CDTF">2003-01-24T17:17:35Z</dcterms:modified>
  <cp:revision>194</cp:revision>
  <dc:subject/>
  <dc:title>THEMIS  Science Instruments</dc:title>
</cp:coreProperties>
</file>