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3AA51495-35E4-4790-804B-F039AE30E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88960" y="1023840"/>
            <a:ext cx="9163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# 1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STEC VLSI Chip development and test 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 N tested and qualified to 8kR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for THEMIS with 1mm of Ta additional shie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MIS chips to be of the same batch as those delivered to STE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 improved version (80kRads), to be delivered for STEREO in J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plans also exist for THEM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L chip is rad-hard, flight proven (Cassini) to be flown on Pluto/E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 electronics (some cost and mass impac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 Angelopoulos</cp:lastModifiedBy>
  <dcterms:modified xsi:type="dcterms:W3CDTF">2003-01-26T05:50:41Z</dcterms:modified>
  <cp:revision>198</cp:revision>
  <dc:subject/>
  <dc:title>THEMIS  Science Instruments</dc:title>
</cp:coreProperties>
</file>