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21- </a:t>
            </a:r>
            <a:fld id="{B59F827F-EFF5-4FAF-B84E-165757BE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74320" y="5716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and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1040" y="1069920"/>
            <a:ext cx="943128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 # 8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y do you have confidence that the reliability approach will meet the mission life requirement? Present your assumptions and initial conditions for the analysis. What is the single-probe reliability, and how does it correlate to the overall mission reliability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nce either P3 or P4 can replace any other Probe, should a block failure occur, mission resilience results with a variety of paths to achieve science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ellation architecture is analogous to an on-orbit “satellite in storage” eliminating single point failures within the mission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bes also have graceful performance degradation if individual elements f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.e dual axial and tangential thrusters, gyro’s and magnetometer (backup the sun sensor), N+1 redundancy in memory blocks, solar array string or battery cell failure reduce capa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 instrument failure is decoupled from operation of the rest of that probe’s instruments representing a minor loss of mission science data collection cap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ur reliability analyses and FMEA’s characterize our system design providing insight into key operational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ur Mission Success Confidence results from our time-tested design practices, selection of heritage components, in-process statistical production feedback, qualified manufacturing processes, and a rigorous and comprehensive component, subsystem, and system level test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1040" y="952560"/>
            <a:ext cx="9390240" cy="61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 # 8, Cont’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in Mission Mode reliability analysis use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 extensive industry &amp; prior Swales (EO-1) component databases convolved into board/element configurations for each function to derive MTBF’s &amp; associated reliabilities for both two year (design life) and one year (minimum life) timefram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k of n” approach (binomial series expansion) used to calculate Mission Reliability of the Constel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ulting individual Probe reliability and Constellation reliability are appropriate for a MIDEX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17520" y="1995480"/>
            <a:ext cx="7597800" cy="3573360"/>
            <a:chOff x="1217520" y="1995480"/>
            <a:chExt cx="7597800" cy="357336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1217520" y="1995480"/>
              <a:ext cx="7597800" cy="32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2"/>
            <a:srcRect l="0" t="14961" r="0" b="0"/>
            <a:stretch/>
          </p:blipFill>
          <p:spPr>
            <a:xfrm>
              <a:off x="1641240" y="5384520"/>
              <a:ext cx="6933240" cy="18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9" name="" descr=""/>
          <p:cNvPicPr/>
          <p:nvPr/>
        </p:nvPicPr>
        <p:blipFill>
          <a:blip r:embed="rId3"/>
          <a:srcRect l="0" t="44596" r="0" b="3937"/>
          <a:stretch/>
        </p:blipFill>
        <p:spPr>
          <a:xfrm>
            <a:off x="1300320" y="6289560"/>
            <a:ext cx="3386160" cy="917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2863" r="0" b="55369"/>
          <a:stretch/>
        </p:blipFill>
        <p:spPr>
          <a:xfrm>
            <a:off x="5664240" y="6356520"/>
            <a:ext cx="338616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Dan Mark</cp:lastModifiedBy>
  <dcterms:modified xsi:type="dcterms:W3CDTF">2003-01-24T22:10:10Z</dcterms:modified>
  <cp:revision>253</cp:revision>
  <dc:subject/>
  <dc:title>THEMIS  Science Instruments</dc:title>
</cp:coreProperties>
</file>